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4394-5057-4229-85CB-C0A873123E2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5D93-1617-43C6-9F5B-EDB28E81BD0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7E4D-2267-48A8-8D5C-E025F980304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4E58-F8B7-4CB0-81A2-59339C140DB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F028-0571-49F6-98D6-8E12D7B1291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F332-D09C-4A72-AB85-C3964723F31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7BD6-8977-4E07-B584-4BB4BC3CE98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A862-AEEE-49BC-8348-519322ABFED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5C9C-82F4-42D2-AF95-89A6CE2B899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5579-2D56-46BE-A885-C1101FF8443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E7A9-6E57-497D-8262-FF7A17DAB20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8308-5EB4-477B-ADC5-9905B6618A0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FA8C-0825-49C9-B1CB-3FF8C3E956C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1ADA-5DC0-4BB4-B114-110FFDCFC63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E342-D8C4-470F-B847-C673953D863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D4C1-3E1D-4BE6-84F9-660D4E2E1FD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4313-375D-4D6F-A056-439802938B9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98CE-C4E1-44CD-A956-55C488F0C96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FB84-3956-4175-8DF9-158B04027FC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DFDB-821E-4A3E-B643-8929A57E92B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47B6-9BFD-4601-A232-5816CBF8EDF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1818-BB80-4E52-8DA9-765FC0F5035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2D01-CE1B-43ED-A877-B8271BA4127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25AF-D6C5-4CD3-A158-6C6149BC93E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0AFD-79D4-4F7C-BFB8-A1172DA6B0B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E1BA-7DF6-4530-815B-CFB72C03558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EF51-FF3B-4088-ADF9-9E9C9D2FDC0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6168-987F-43EA-9E3D-D7D4B971DDA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E35F-887D-4174-A179-00F3F80FB85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2745-592A-4118-84FE-3D4A2F00102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4B65-401A-4079-9EA2-F73F1F0005C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A57A-AA0F-4E10-9E0E-99EC2F067E8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05FA-51B4-4EDA-8DB1-50BD74F7B39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8D05-A3B3-44E6-A59F-2CA5AB41E06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C133-27BC-465A-B945-50232F9E839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8C64-4FF7-48C7-941D-F174371193C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704D-9EAA-4F57-B0C3-D05B92A0418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235A-D888-44EB-8875-41871F7A959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74B5-02A9-4F7D-846C-889027DC5BE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EB1B-26B4-46E0-AF0C-E5E5BCEF270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C943-9DDE-4319-B583-5DD69440836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EFB3-E8C0-492C-9A4C-AFA4B4B499F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9B8C-955F-40FB-8D07-1799726DD98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6B00-F9EB-4E4C-9E18-5C0F9D01573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D0CF-3780-4149-91A8-A2A6ADB011B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EEAA-171B-4C86-B1AC-77E721FF93C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5B07-F1DF-4DB0-8968-69B586A224A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6606-C7B2-4765-A4D7-6C88E0EE763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F597-9C17-46D9-8EB7-94E8D14DC3E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4EFA-AE29-44FE-BDAE-D562C926836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00F5-7CF6-4FA5-BF4E-8B275EB2C95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C6A5-7B6D-43DB-90E3-38E6B3BA8E9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25DC-B4C4-41F8-A8F0-EE47B0517E6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D39A-7A0E-47F0-A79F-416DCAA1D69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8C4A-5DC8-4933-8742-708349E5123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038E-AFF6-47FD-B672-CA6DDFA8F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C745-4533-4BAD-97F7-7C07FF61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FC3B-A9A3-4925-85F4-12D48221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A80E-F595-4D3F-8C6E-D8D28F07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16A6-EC23-4E51-BF17-94088FA8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A345-DFC6-4811-BEEE-29F98AB1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DD0B-CF75-4C01-9444-D5EF3995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0EBD-0063-4BA2-9671-2C458C33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1B75-EC34-4905-81A9-4397455A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8EF7-A635-4276-8D15-31FDA411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B0D8-32D5-4484-A118-665BC547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1483-F011-4761-8E90-BAC7D9B3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6BBC-D1F0-4EDD-AD6E-672490F4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724B-B669-49D9-9E04-DA99A216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FA2E-20CD-45DC-8B4A-C4CCBC73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1D4A-1EBF-4FE0-A179-867C69B3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FF3F-5185-4636-9618-FB9BE9BE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A9EB-0FB7-4DD2-A03B-6F3B1881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8210-B0C5-4B4F-879C-511E9E52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0473-6957-4CF8-9FAA-A6F22732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2ED2-AEDA-46E7-9B9B-1610F007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100C-3557-41CC-A2D2-932BFCCB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A248-C115-4D5E-B134-87E94CEC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0386-CD1E-49FC-AD06-D2114030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9A05-80AF-44C9-B19A-7ED004DDBB5A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4E38-2373-419D-8058-25E83B082C64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8634600" cy="4238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it-IT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ccecff"/>
                </a:solidFill>
                <a:latin typeface="Arial"/>
              </a:rPr>
              <a:t>PAS – Univ. Di Pisa, 2013</a:t>
            </a:r>
            <a:br>
              <a:rPr sz="1600"/>
            </a:br>
            <a:br>
              <a:rPr sz="1800"/>
            </a:br>
            <a:br>
              <a:rPr sz="1800"/>
            </a:br>
            <a:r>
              <a:rPr b="1" lang="it-IT" sz="2800" spc="-1" strike="noStrike">
                <a:solidFill>
                  <a:srgbClr val="ff6600"/>
                </a:solidFill>
                <a:latin typeface="Bookman Old Style"/>
              </a:rPr>
              <a:t>La progettazione curricolare:</a:t>
            </a:r>
            <a:br>
              <a:rPr sz="2800"/>
            </a:br>
            <a:r>
              <a:rPr b="1" lang="it-IT" sz="2800" spc="-1" strike="noStrike">
                <a:solidFill>
                  <a:srgbClr val="ff6600"/>
                </a:solidFill>
                <a:latin typeface="Bookman Old Style"/>
              </a:rPr>
              <a:t>modelli teorico-metodologici di riferimento e quadro normativo </a:t>
            </a:r>
            <a:br>
              <a:rPr sz="24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99680" y="5285880"/>
            <a:ext cx="80643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Verdana"/>
              </a:rPr>
              <a:t>Davide Capperuc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      </a:t>
            </a:r>
            <a:r>
              <a:rPr b="1" lang="it-IT" sz="2400" spc="-1" strike="noStrike">
                <a:solidFill>
                  <a:srgbClr val="ffcc66"/>
                </a:solidFill>
                <a:latin typeface="Century Gothic"/>
              </a:rPr>
              <a:t>Programma</a:t>
            </a:r>
            <a:r>
              <a:rPr b="1" lang="it-IT" sz="2400" spc="-1" strike="noStrike">
                <a:solidFill>
                  <a:srgbClr val="ccecff"/>
                </a:solidFill>
                <a:latin typeface="Century Gothic"/>
              </a:rPr>
              <a:t>                    </a:t>
            </a:r>
            <a:r>
              <a:rPr b="1" lang="it-IT" sz="2400" spc="-1" strike="noStrike">
                <a:solidFill>
                  <a:srgbClr val="ffcc66"/>
                </a:solidFill>
                <a:latin typeface="Century Gothic"/>
              </a:rPr>
              <a:t>Curricolo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980720" y="1523520"/>
            <a:ext cx="2514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Sapere Accadem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gramm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grammazio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pprendimen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(conoscenze disciplinari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257440" y="15238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(competenz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pprendimen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Sape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gettazio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nalisi de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bisogn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(soggetto/contesto)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3132000" y="227664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3132000" y="3500280"/>
            <a:ext cx="228600" cy="838440"/>
          </a:xfrm>
          <a:prstGeom prst="downArrow">
            <a:avLst>
              <a:gd name="adj1" fmla="val 50000"/>
              <a:gd name="adj2" fmla="val 9169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3132000" y="486900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6400800" y="2133720"/>
            <a:ext cx="228600" cy="838080"/>
          </a:xfrm>
          <a:prstGeom prst="upArrow">
            <a:avLst>
              <a:gd name="adj1" fmla="val 50000"/>
              <a:gd name="adj2" fmla="val 9165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6400800" y="3429000"/>
            <a:ext cx="228600" cy="762120"/>
          </a:xfrm>
          <a:prstGeom prst="upArrow">
            <a:avLst>
              <a:gd name="adj1" fmla="val 50000"/>
              <a:gd name="adj2" fmla="val 8334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6400800" y="4572000"/>
            <a:ext cx="243000" cy="857160"/>
          </a:xfrm>
          <a:prstGeom prst="upArrow">
            <a:avLst>
              <a:gd name="adj1" fmla="val 50000"/>
              <a:gd name="adj2" fmla="val 9994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Articolazioni del Currico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1699920"/>
            <a:ext cx="885672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6600"/>
                </a:solidFill>
                <a:latin typeface="Verdana"/>
              </a:rPr>
              <a:t>Quota nazionale del curricol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3300"/>
                </a:solidFill>
                <a:latin typeface="Verdana"/>
              </a:rPr>
              <a:t>Quota locale del curricol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ff33"/>
                </a:solidFill>
                <a:latin typeface="Verdana"/>
              </a:rPr>
              <a:t>Quota extracurricolare aggiunti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3640" y="277920"/>
            <a:ext cx="8569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urricolo e ordinamenti scolast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Ogni scuola predispone il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urricol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all’interno del Piano dell’offerta formativa, nel rispetto delle finalità, de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traguardi per lo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degl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obiettivi di apprendimento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osti dall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Indicazioni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l curricolo si articola attraverso 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ampi di esperienza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l’infanzia e attraverso l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discipline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rimo ciclo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Da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Indicazioni per il currico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ff33"/>
                </a:solidFill>
                <a:latin typeface="Arial"/>
              </a:rPr>
              <a:t>Curricolo e competenz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Oggi il fine delle istituzioni scolastiche è quello di </a:t>
            </a:r>
            <a:r>
              <a:rPr b="1" i="1" lang="it-IT" sz="4000" spc="-1" strike="noStrike">
                <a:solidFill>
                  <a:srgbClr val="ff3300"/>
                </a:solidFill>
                <a:latin typeface="Verdana"/>
              </a:rPr>
              <a:t>formare competenze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 spendibili (anche) in contesti formativi e professionali diversi da quello scolastic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56800" y="1214280"/>
            <a:ext cx="728676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Che cosa sono le competenze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e (1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«Le competenze sono l’insieme delle buone </a:t>
            </a:r>
            <a:r>
              <a:rPr b="1" i="1" lang="it-IT" sz="2400" spc="-1" strike="noStrike">
                <a:solidFill>
                  <a:srgbClr val="ff6699"/>
                </a:solidFill>
                <a:latin typeface="Verdana"/>
              </a:rPr>
              <a:t>capacità potenzial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di ciascuno portate effettivamente al miglior compimento nelle particolari situazioni date: ovvero indicano 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quello che siamo effettivamente in grado di fare, pensare e agir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adesso, nell’unità della nostra persona, dinanzi all’unità complessa dei problemi e delle situazioni di un certo tipo (professionali e non professionali) che siamo chiamati ad affrontare e risolvere in un determinato contesto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Mentre le capacità esprimono la forma del nostro essere potenziale, le competenze manifestano, quindi, quella del nostro essere attual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nelle diverse contingenze date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66"/>
                </a:solidFill>
                <a:latin typeface="Verdana"/>
              </a:rPr>
              <a:t>Da </a:t>
            </a:r>
            <a:r>
              <a:rPr b="0" i="1" lang="it-IT" sz="1800" spc="-1" strike="noStrike">
                <a:solidFill>
                  <a:srgbClr val="ffcc66"/>
                </a:solidFill>
                <a:latin typeface="Verdana"/>
              </a:rPr>
              <a:t>Raccomandazioni, a</a:t>
            </a:r>
            <a:r>
              <a:rPr b="0" lang="it-IT" sz="1800" spc="-1" strike="noStrike">
                <a:solidFill>
                  <a:srgbClr val="ffcc66"/>
                </a:solidFill>
                <a:latin typeface="Verdana"/>
              </a:rPr>
              <a:t>llegate al Decreto n. 59/2004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e (2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L’agire personale di ciascuno, basato sulle conoscenze e abilità acquisit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funzionale all’esecuzione di un compito, alla realizzazione di un progetto. Non è mai un agire semplice, atomizzato, astratto, ma è sempre un 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agire complesso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che coinvolge tutta la persona e 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che connette in maniera unitaria e inseparabile i saperi (conoscenze), i saper fare (abilità), i comportamenti individuali e relazionali, gli atteggiamenti emotivi, le scelte valoriali, le motivazioni e i fin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. Per questo, nasce da una continua interazione tra persona, ambiente e società, e tra significati personali e sociali, impliciti ed espliciti».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Da</a:t>
            </a:r>
            <a:r>
              <a:rPr b="0" i="1" lang="it-IT" sz="2000" spc="-1" strike="noStrike">
                <a:solidFill>
                  <a:srgbClr val="ffcc66"/>
                </a:solidFill>
                <a:latin typeface="Verdana"/>
              </a:rPr>
              <a:t> Indicazioni Nazionali (200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L’</a:t>
            </a:r>
            <a:r>
              <a:rPr b="1" i="1" lang="it-IT" sz="4000" spc="-1" strike="noStrike">
                <a:solidFill>
                  <a:srgbClr val="ccecff"/>
                </a:solidFill>
                <a:latin typeface="Arial"/>
              </a:rPr>
              <a:t>iceberg</a:t>
            </a: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 delle competenz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6" name="Picture 3" descr="mso8A951"/>
          <p:cNvPicPr/>
          <p:nvPr/>
        </p:nvPicPr>
        <p:blipFill>
          <a:blip r:embed="rId1"/>
          <a:stretch/>
        </p:blipFill>
        <p:spPr>
          <a:xfrm>
            <a:off x="457200" y="1143000"/>
            <a:ext cx="8153280" cy="5445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a (3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744560"/>
            <a:ext cx="896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Una competenza è data dall’insieme integrato di </a:t>
            </a:r>
            <a:r>
              <a:rPr b="0" lang="it-IT" sz="3000" spc="-1" strike="noStrike">
                <a:solidFill>
                  <a:srgbClr val="ffcccc"/>
                </a:solidFill>
                <a:latin typeface="Verdana"/>
              </a:rPr>
              <a:t>abilità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it-IT" sz="3000" spc="-1" strike="noStrike">
                <a:solidFill>
                  <a:srgbClr val="66ffcc"/>
                </a:solidFill>
                <a:latin typeface="Verdana"/>
              </a:rPr>
              <a:t>conoscenze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e </a:t>
            </a:r>
            <a:r>
              <a:rPr b="0" lang="it-IT" sz="3000" spc="-1" strike="noStrike">
                <a:solidFill>
                  <a:srgbClr val="ffcc66"/>
                </a:solidFill>
                <a:latin typeface="Verdana"/>
              </a:rPr>
              <a:t>atteggiamenti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che un soggetto in determinati contesti reali, utilizzando materiali e strumenti, è in grado di attivare realizzando una prestazione consapevole finalizzata al raggiungi-mento di uno scopo.</a:t>
            </a:r>
            <a:r>
              <a:rPr b="0" lang="it-IT" sz="2400" spc="-1" strike="noStrike">
                <a:solidFill>
                  <a:srgbClr val="000000"/>
                </a:solidFill>
                <a:latin typeface="KTKVGH+TimesNewRomanP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916000" y="475920"/>
            <a:ext cx="3322440" cy="576360"/>
          </a:xfrm>
          <a:prstGeom prst="rect">
            <a:avLst/>
          </a:prstGeom>
          <a:solidFill>
            <a:srgbClr val="ccecff"/>
          </a:solidFill>
          <a:ln w="1908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660033"/>
                </a:solidFill>
                <a:latin typeface="Verdana"/>
              </a:rPr>
              <a:t>Competenz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250920" y="2276640"/>
            <a:ext cx="2665440" cy="5760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Conoscenz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059280" y="2276640"/>
            <a:ext cx="2449440" cy="5760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Abilit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5651640" y="2276640"/>
            <a:ext cx="3322440" cy="5760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Verdana"/>
              </a:rPr>
              <a:t>Atteggiamen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Oval 9"/>
          <p:cNvSpPr/>
          <p:nvPr/>
        </p:nvSpPr>
        <p:spPr>
          <a:xfrm>
            <a:off x="468360" y="4437000"/>
            <a:ext cx="8353440" cy="1943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Contes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1476360" y="4941720"/>
            <a:ext cx="6408720" cy="574920"/>
          </a:xfrm>
          <a:prstGeom prst="rect">
            <a:avLst/>
          </a:prstGeom>
          <a:solidFill>
            <a:srgbClr val="ffcc66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660033"/>
                </a:solidFill>
                <a:latin typeface="Verdana"/>
              </a:rPr>
              <a:t>Prestazione/Compito autent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AutoShape 13"/>
          <p:cNvSpPr/>
          <p:nvPr/>
        </p:nvSpPr>
        <p:spPr>
          <a:xfrm rot="5400000">
            <a:off x="2770920" y="-531000"/>
            <a:ext cx="144720" cy="5184720"/>
          </a:xfrm>
          <a:custGeom>
            <a:avLst/>
            <a:gdLst>
              <a:gd name="textAreaLeft" fmla="*/ 92520 w 144720"/>
              <a:gd name="textAreaRight" fmla="*/ 145080 w 14472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971640" y="1557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it-IT" sz="1800" spc="-1" strike="noStrike">
                <a:solidFill>
                  <a:srgbClr val="ccff33"/>
                </a:solidFill>
                <a:latin typeface="Verdana"/>
              </a:rPr>
              <a:t>DISCIPL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AutoShape 15"/>
          <p:cNvSpPr/>
          <p:nvPr/>
        </p:nvSpPr>
        <p:spPr>
          <a:xfrm rot="5400000">
            <a:off x="7199640" y="440280"/>
            <a:ext cx="216000" cy="331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5364000" y="15573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it-IT" sz="1800" spc="-1" strike="noStrike">
                <a:solidFill>
                  <a:srgbClr val="66ffcc"/>
                </a:solidFill>
                <a:latin typeface="Verdana"/>
              </a:rPr>
              <a:t>TRATTI PERSONAL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Line 17"/>
          <p:cNvSpPr/>
          <p:nvPr/>
        </p:nvSpPr>
        <p:spPr>
          <a:xfrm flipH="1">
            <a:off x="2987640" y="1125360"/>
            <a:ext cx="172872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Line 18"/>
          <p:cNvSpPr/>
          <p:nvPr/>
        </p:nvSpPr>
        <p:spPr>
          <a:xfrm>
            <a:off x="4716360" y="1125360"/>
            <a:ext cx="15843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Line 19"/>
          <p:cNvSpPr/>
          <p:nvPr/>
        </p:nvSpPr>
        <p:spPr>
          <a:xfrm>
            <a:off x="4427640" y="2924280"/>
            <a:ext cx="0" cy="144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Line 24"/>
          <p:cNvSpPr/>
          <p:nvPr/>
        </p:nvSpPr>
        <p:spPr>
          <a:xfrm>
            <a:off x="1476360" y="2852640"/>
            <a:ext cx="280836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Line 25"/>
          <p:cNvSpPr/>
          <p:nvPr/>
        </p:nvSpPr>
        <p:spPr>
          <a:xfrm flipH="1">
            <a:off x="4572000" y="2852640"/>
            <a:ext cx="273672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… </a:t>
            </a: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la sfida della scuola di ogg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Si tratta di accertare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non ciò che lo studente sa,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ma ciò che sa fare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con ciò che sa”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66"/>
                </a:solidFill>
                <a:latin typeface="Verdana"/>
              </a:rPr>
              <a:t>Grant P. Wiggins (1993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a (4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«La competenza può essere sommariamente definita come la 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capacità di usare le proprie conoscenze e le proprie abilità per raggiungere un dato obiettiv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(o per fornire una prestazione rispondente a determinati standard di efficacia) in certi contesti. In altri termini, la competenza consisterebbe nella capacità di padroneggiare una conoscenza 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(componente “endogena”)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e di utilizzarla efficacemente 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(componente “esogena”)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in una certa gamma di situazioni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. Baldacci, </a:t>
            </a:r>
            <a:r>
              <a:rPr b="0" i="1" lang="it-IT" sz="1600" spc="-1" strike="noStrike">
                <a:solidFill>
                  <a:srgbClr val="ffffff"/>
                </a:solidFill>
                <a:latin typeface="Verdana"/>
              </a:rPr>
              <a:t>La didattica per modul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, Laterza, Roma-Bari, 2003, p. 33.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e “essenziali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L’attributo di </a:t>
            </a:r>
            <a:r>
              <a:rPr b="0" lang="it-IT" sz="3200" spc="-1" strike="noStrike">
                <a:solidFill>
                  <a:srgbClr val="ffcc66"/>
                </a:solidFill>
                <a:latin typeface="Verdana"/>
              </a:rPr>
              <a:t>«essenzialità»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non è intrinseco all’oggetto (competenza o sapere che sia) e quindi non può riferirsi a standard minimi di competenza, ma va attribuito a ciò che è </a:t>
            </a: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essenzial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per il soggetto al fine di sviluppare al meglio le sue potenzialità, anche quando i livelli di </a:t>
            </a: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padronanza delle competenze saranno raggiunti a livelli divers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ompetenza:</a:t>
            </a:r>
            <a:br>
              <a:rPr sz="4000"/>
            </a:b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 tra personalismo e funzionalism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Personalismo: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valorizzazione delle potenzialità e delle capacità individuali dell’alunno attraverso 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personalizzazion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dei percorsi formativi che significa sia adattamento delle metodologie a livello individuale (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individualizzazion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), ma anche sviluppo di competenze diversificate da soggetto a sogget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6600"/>
                </a:solidFill>
                <a:latin typeface="Verdana"/>
              </a:rPr>
              <a:t>Funzionalismo: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alcune competenze devono essere necessariamente raggiunte da tutti, poiché fungono da presupposto per garantire il pieno esercizio del diritto di cittadinan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noscenz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Risultato dell'assimilazione di informazioni attraverso l’apprendimento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Le conoscenze sono un insieme di fatti, principi, teorie e pratiche relative ad un settore di lavoro o di studio”.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Esempio:</a:t>
            </a:r>
            <a:r>
              <a:rPr b="0" lang="it-IT" sz="24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-Conoscere le principali strutture grammaticali della lingua italia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-Conoscere gli elementi di base delle funzioni della lingu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Dal </a:t>
            </a:r>
            <a:r>
              <a:rPr b="0" i="1" lang="it-IT" sz="1400" spc="-1" strike="noStrike">
                <a:solidFill>
                  <a:srgbClr val="ffffff"/>
                </a:solidFill>
                <a:latin typeface="Verdana"/>
              </a:rPr>
              <a:t>Quadro europeo delle qualifich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35000" y="304920"/>
            <a:ext cx="8896320" cy="59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… </a:t>
            </a: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E le conoscenze??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Le conoscenze vengo ad assumere un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ccff33"/>
                </a:solidFill>
                <a:latin typeface="Verdana"/>
              </a:rPr>
              <a:t>valore strumentale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alla maturazione di </a:t>
            </a:r>
            <a:r>
              <a:rPr b="0" i="1" lang="it-IT" sz="3000" spc="-1" strike="noStrike">
                <a:solidFill>
                  <a:srgbClr val="ff3300"/>
                </a:solidFill>
                <a:latin typeface="Verdana"/>
              </a:rPr>
              <a:t>competenze essenziali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trasferibili da un contesto di esperienza all’altr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Stante la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flessibilità dei percors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garantiti dall’autonomia scolastic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ciò che è importante è il conseguimento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delle </a:t>
            </a:r>
            <a:r>
              <a:rPr b="0" i="1" lang="it-IT" sz="2400" spc="-1" strike="noStrike" u="sng">
                <a:solidFill>
                  <a:srgbClr val="ff3300"/>
                </a:solidFill>
                <a:uFillTx/>
                <a:latin typeface="Verdana"/>
              </a:rPr>
              <a:t>competenz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che vanno certific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3" name="Picture 3" descr="j0301252"/>
          <p:cNvPicPr/>
          <p:nvPr/>
        </p:nvPicPr>
        <p:blipFill>
          <a:blip r:embed="rId1"/>
          <a:stretch/>
        </p:blipFill>
        <p:spPr>
          <a:xfrm>
            <a:off x="5867280" y="260280"/>
            <a:ext cx="1513080" cy="12686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7596360" y="33336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??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Picture 5" descr="j0252349"/>
          <p:cNvPicPr/>
          <p:nvPr/>
        </p:nvPicPr>
        <p:blipFill>
          <a:blip r:embed="rId2"/>
          <a:stretch/>
        </p:blipFill>
        <p:spPr>
          <a:xfrm>
            <a:off x="5867280" y="4649760"/>
            <a:ext cx="1657440" cy="1008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j0297707"/>
          <p:cNvPicPr/>
          <p:nvPr/>
        </p:nvPicPr>
        <p:blipFill>
          <a:blip r:embed="rId3"/>
          <a:stretch/>
        </p:blipFill>
        <p:spPr>
          <a:xfrm>
            <a:off x="7956720" y="5229360"/>
            <a:ext cx="1147680" cy="1414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Abilità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892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ndicano le capacità di applicare conoscenze e di utilizzar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know-how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per portare a termine compiti e risolvere problemi. Esse sono sia cognitive (comprendenti l’uso del pensiero logico, intuitivo e creativo) o pratiche (comprendenti l’abilità manuale e l’uso di metodi, materiali, strumenti)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99"/>
                </a:solidFill>
                <a:latin typeface="Verdana"/>
              </a:rPr>
              <a:t>Esempio:</a:t>
            </a:r>
            <a:r>
              <a:rPr b="0" lang="it-IT" sz="20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-Trasformare un grafema in fonem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-Individuare le parti che costituiscono un tes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Dal </a:t>
            </a:r>
            <a:r>
              <a:rPr b="0" i="1" lang="it-IT" sz="1800" spc="-1" strike="noStrike">
                <a:solidFill>
                  <a:srgbClr val="ffffff"/>
                </a:solidFill>
                <a:latin typeface="Verdana"/>
              </a:rPr>
              <a:t>Quadro europeo delle qualifich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722160" y="2214720"/>
            <a:ext cx="7772400" cy="37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Che cosa sono le </a:t>
            </a:r>
            <a:r>
              <a:rPr b="1" i="1" lang="it-IT" sz="6000" spc="-1" strike="noStrike">
                <a:solidFill>
                  <a:srgbClr val="ffc000"/>
                </a:solidFill>
                <a:latin typeface="Verdana"/>
              </a:rPr>
              <a:t>Indicazioni Nazionali per il Curricolo?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A cosa servono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Le “</a:t>
            </a:r>
            <a:r>
              <a:rPr b="1" i="1" lang="it-IT" sz="4400" spc="-1" strike="noStrike">
                <a:solidFill>
                  <a:srgbClr val="ffcc66"/>
                </a:solidFill>
                <a:latin typeface="Arial"/>
              </a:rPr>
              <a:t>stagioni”</a:t>
            </a: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 delle </a:t>
            </a:r>
            <a:r>
              <a:rPr b="1" i="1" lang="it-IT" sz="4400" spc="-1" strike="noStrike">
                <a:solidFill>
                  <a:srgbClr val="ffcc66"/>
                </a:solidFill>
                <a:latin typeface="Arial"/>
              </a:rPr>
              <a:t>Indicazion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999720"/>
            <a:ext cx="878544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0-01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legate al riordino dei cicli scolasti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De Mauro) (L. 30/2000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4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per i piani di studio personalizzati e per i piani personalizzati delle attività educativ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Moratti) (DM. N. 59/200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7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per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l curricolo per la scuola dell’infanzia e per la scuola del primo cicl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Fioroni) (DM 31 lug. 07, Direttiva 3 ago. 2007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9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“Armonizzazione”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ndicazioni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per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l curricolo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Gelmini) (Atto di indirizzo MIUR, 8 settembre 2009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000"/>
                </a:solidFill>
                <a:latin typeface="Verdana"/>
              </a:rPr>
              <a:t>2011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per i Licei e Linee Guida IT e IP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Gelmini) (201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000"/>
                </a:solidFill>
                <a:latin typeface="Verdana"/>
              </a:rPr>
              <a:t>2012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per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l curricolo per la scuola dell’infanzia e per la scuola del primo cicl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Profuno) (201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Arial"/>
              </a:rPr>
              <a:t>Livelli della progettazione curricolare:</a:t>
            </a:r>
            <a:br>
              <a:rPr sz="3200"/>
            </a:br>
            <a:r>
              <a:rPr b="1" lang="it-IT" sz="3200" spc="-1" strike="noStrike">
                <a:solidFill>
                  <a:srgbClr val="ffcc66"/>
                </a:solidFill>
                <a:latin typeface="Arial"/>
              </a:rPr>
              <a:t>dal centro alla periferi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416720" cy="4319640"/>
          </a:xfrm>
          <a:prstGeom prst="rect">
            <a:avLst/>
          </a:prstGeom>
          <a:solidFill>
            <a:srgbClr val="ffccff"/>
          </a:solidFill>
          <a:ln w="3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6699"/>
                </a:solidFill>
                <a:latin typeface="Verdana"/>
              </a:rPr>
              <a:t>   </a:t>
            </a:r>
            <a:r>
              <a:rPr b="1" lang="it-IT" sz="3200" spc="-1" strike="noStrike">
                <a:solidFill>
                  <a:srgbClr val="ff6699"/>
                </a:solidFill>
                <a:latin typeface="Verdana"/>
              </a:rPr>
              <a:t>Curricolo Naziona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Verdana"/>
              </a:rPr>
              <a:t>Indicazio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4284720" y="3573360"/>
            <a:ext cx="6476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4284720" y="2492280"/>
            <a:ext cx="64764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4284720" y="4653000"/>
            <a:ext cx="647640" cy="720720"/>
          </a:xfrm>
          <a:prstGeom prst="downArrow">
            <a:avLst>
              <a:gd name="adj1" fmla="val 50000"/>
              <a:gd name="adj2" fmla="val 27821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187280" y="407664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3300"/>
                </a:solidFill>
                <a:latin typeface="Verdana"/>
              </a:rPr>
              <a:t>Autonomia delle istituzioni scolastich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1332000" y="5445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Verdana"/>
              </a:rPr>
              <a:t>Curricolo della scuo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AutoShape 10"/>
          <p:cNvSpPr/>
          <p:nvPr/>
        </p:nvSpPr>
        <p:spPr>
          <a:xfrm>
            <a:off x="324000" y="1700280"/>
            <a:ext cx="2016000" cy="4968720"/>
          </a:xfrm>
          <a:custGeom>
            <a:avLst/>
            <a:gdLst>
              <a:gd name="textAreaLeft" fmla="*/ 270000 w 2016000"/>
              <a:gd name="textAreaRight" fmla="*/ 1746000 w 2016000"/>
              <a:gd name="textAreaTop" fmla="*/ 869400 h 4968720"/>
              <a:gd name="textAreaBottom" fmla="*/ 3602520 h 49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AutoShape 12"/>
          <p:cNvSpPr/>
          <p:nvPr/>
        </p:nvSpPr>
        <p:spPr>
          <a:xfrm flipH="1" flipV="1">
            <a:off x="7020000" y="1124640"/>
            <a:ext cx="1728720" cy="5040360"/>
          </a:xfrm>
          <a:custGeom>
            <a:avLst/>
            <a:gdLst>
              <a:gd name="textAreaLeft" fmla="*/ 231480 w 1728720"/>
              <a:gd name="textAreaRight" fmla="*/ 1497240 w 1728720"/>
              <a:gd name="textAreaTop" fmla="*/ 882000 h 5040360"/>
              <a:gd name="textAreaBottom" fmla="*/ 3654360 h 50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0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Indicazioni</a:t>
            </a:r>
            <a:r>
              <a:rPr b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r>
              <a:rPr b="1" i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nazionali</a:t>
            </a:r>
            <a:r>
              <a:rPr b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 e curricolo unitari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28400" y="785880"/>
            <a:ext cx="8715240" cy="58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231f20"/>
                </a:solidFill>
                <a:latin typeface="Verdana"/>
                <a:ea typeface="Times New Roman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99"/>
                </a:solidFill>
                <a:latin typeface="Verdana"/>
                <a:ea typeface="Times New Roman"/>
              </a:rPr>
              <a:t>curricolo unitario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riferito a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tre gradi diversi di scuola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e biennio scuola secondaria di II grad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collocato all’interno di una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medesima </a:t>
            </a:r>
            <a:r>
              <a:rPr b="0" lang="it-IT" sz="4000" spc="-1" strike="noStrike" u="sng">
                <a:solidFill>
                  <a:srgbClr val="ffc000"/>
                </a:solidFill>
                <a:uFillTx/>
                <a:latin typeface="Verdana"/>
                <a:ea typeface="Times New Roman"/>
              </a:rPr>
              <a:t>cornice culturale</a:t>
            </a:r>
            <a:r>
              <a:rPr b="0" lang="it-IT" sz="4000" spc="-1" strike="noStrike">
                <a:solidFill>
                  <a:srgbClr val="ffc000"/>
                </a:solidFill>
                <a:latin typeface="Verdana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ed una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medesima </a:t>
            </a:r>
            <a:r>
              <a:rPr b="0" lang="it-IT" sz="4000" spc="-1" strike="noStrike" u="sng">
                <a:solidFill>
                  <a:srgbClr val="ffc000"/>
                </a:solidFill>
                <a:uFillTx/>
                <a:latin typeface="Verdana"/>
                <a:ea typeface="Times New Roman"/>
              </a:rPr>
              <a:t>struttura organizzativ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Parole-chiave </a:t>
            </a:r>
            <a:br>
              <a:rPr sz="4400"/>
            </a:br>
            <a:r>
              <a:rPr b="1" i="1" lang="it-IT" sz="3200" spc="-1" strike="noStrike">
                <a:solidFill>
                  <a:srgbClr val="ff0000"/>
                </a:solidFill>
                <a:latin typeface="Arial"/>
              </a:rPr>
              <a:t>(… da dove veniamo, …per andare dove…?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9680" y="1571760"/>
            <a:ext cx="818676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Verdana"/>
              </a:rPr>
              <a:t>- Scuola dell’alfabetizzazione (di base e cultural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699"/>
                </a:solidFill>
                <a:latin typeface="Verdana"/>
              </a:rPr>
              <a:t>Programm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66"/>
                </a:solidFill>
                <a:latin typeface="Verdana"/>
              </a:rPr>
              <a:t>Programmazion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cc33"/>
                </a:solidFill>
                <a:latin typeface="Verdana"/>
              </a:rPr>
              <a:t>Curricol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Verdana"/>
              </a:rPr>
              <a:t>Progettazion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395280" y="4149720"/>
            <a:ext cx="8424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419640" y="4005360"/>
            <a:ext cx="24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168440" y="393372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cecff"/>
                </a:solidFill>
                <a:latin typeface="Verdana"/>
              </a:rPr>
              <a:t>199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95280" y="4292640"/>
            <a:ext cx="32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Verdana"/>
              </a:rPr>
              <a:t>- Scuola dell’autonomi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Verdana"/>
              </a:rPr>
              <a:t>e delle compet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28400" y="428760"/>
            <a:ext cx="842940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Verdana"/>
                <a:ea typeface="Times New Roman"/>
              </a:rPr>
              <a:t>Cornice culturale: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ersona, Cultura, Scuo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a scuola nel nuovo scenario sociale e culturale (complessità, globalizzazione, interculturalità, digitalizzazione, ecc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Centralità delle persona nel suo sviluppo globale e armonico (irriducibilità, irripetibilità, inviolabilità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er una nuova cittadinanza (più coesione sociale, più competenze, più inclusion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er un nuovo umanesimo (incontro tra saperi umanistici e saperi scientific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35712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000"/>
                </a:solidFill>
                <a:latin typeface="Verdana"/>
                <a:ea typeface="Times New Roman"/>
              </a:rPr>
              <a:t>Struttura organizzativ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Ogni scuola predispone il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urricol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all’interno del Piano dell’offerta formativa con riferimento al Profilo dello studente al termine del primo ciclo di istruzione, a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traguardi per lo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agl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obiettivi di apprendimento specifici per ogni disciplina”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l curricolo si articola attraverso 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ampi di esperienza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l’infanzia e attraverso l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discipline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rimo ciclo”.    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Indicazioni, 201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000"/>
                </a:solidFill>
                <a:latin typeface="Verdana"/>
              </a:rPr>
              <a:t>  </a:t>
            </a:r>
            <a:r>
              <a:rPr b="0" lang="it-IT" sz="2800" spc="-1" strike="noStrike">
                <a:solidFill>
                  <a:srgbClr val="ffc000"/>
                </a:solidFill>
                <a:latin typeface="Verdana"/>
              </a:rPr>
              <a:t>Non sono più previste le </a:t>
            </a:r>
            <a:r>
              <a:rPr b="0" i="1" lang="it-IT" sz="2800" spc="-1" strike="noStrike">
                <a:solidFill>
                  <a:srgbClr val="ffc000"/>
                </a:solidFill>
                <a:latin typeface="Verdana"/>
              </a:rPr>
              <a:t>“aree disciplinari”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2352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I traguardi per lo sviluppo delle competenze</a:t>
            </a:r>
            <a:r>
              <a:rPr b="0" lang="it-IT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Rappresentano riferimenti per gli insegnanti, indicano piste da percorrere e </a:t>
            </a:r>
            <a:r>
              <a:rPr b="1" lang="it-IT" sz="2200" spc="-1" strike="noStrike">
                <a:solidFill>
                  <a:srgbClr val="ffcc66"/>
                </a:solidFill>
                <a:latin typeface="Verdana"/>
              </a:rPr>
              <a:t>aiutano a finalizzare l’azione educativa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allo sviluppo integrale dell’alunn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cccc"/>
                </a:solidFill>
                <a:latin typeface="Verdana"/>
              </a:rPr>
              <a:t>Nella scuola dell’infanzia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suggeriscono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all’insegnante 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orientamenti, attenzioni e responsabilità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per favorire esperienze volte allo sviluppo della competenza, che a questa età va inteso in modo globale e unitari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Verdana"/>
              </a:rPr>
              <a:t>Nella scuola del primo ciclo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favoriscono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l’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apprendimento 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e la 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costruzione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dell’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identità 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degli alunni ponendo le basi per lo sviluppo delle competenze indispensabili per continuare ad apprendere a scuola e lungo l’intero arco della vita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66"/>
                </a:solidFill>
                <a:latin typeface="Verdana"/>
              </a:rPr>
              <a:t>Da </a:t>
            </a:r>
            <a:r>
              <a:rPr b="0" i="1" lang="it-IT" sz="1800" spc="-1" strike="noStrike">
                <a:solidFill>
                  <a:srgbClr val="ffcc66"/>
                </a:solidFill>
                <a:latin typeface="Verdana"/>
              </a:rPr>
              <a:t>Indicazioni per il curricol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Traguardi per </a:t>
            </a:r>
            <a:br>
              <a:rPr sz="4400"/>
            </a:b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1" i="1" lang="it-IT" sz="4400" spc="-1" strike="noStrike">
                <a:solidFill>
                  <a:srgbClr val="ffcc66"/>
                </a:solidFill>
                <a:latin typeface="Arial"/>
              </a:rPr>
              <a:t>quali competenze”</a:t>
            </a: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6600"/>
                </a:solidFill>
                <a:latin typeface="Verdana"/>
              </a:rPr>
              <a:t>Competenze disciplinar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Le competenze sviluppate nell’ambito delle singole discipline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concorrono a loro volta alla promozione di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competenze più ampie e trasversali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, che rappresentano una condizione essenziale per la piena realizzazione personale e per la partecipazione attiva alla vita sociale”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Verdana"/>
              </a:rPr>
              <a:t>Competenze trasversal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Le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competenze per l’esercizio della cittadinanza attiva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sono promosse continuamente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nell’ambito di tutte le attività di apprendimento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, utilizzando e finalizzando opportunamente i contributi ch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ciascuna disciplina può offrire”.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ecff"/>
                </a:solidFill>
                <a:latin typeface="Verdana"/>
              </a:rPr>
              <a:t>Da </a:t>
            </a:r>
            <a:r>
              <a:rPr b="0" i="1" lang="it-IT" sz="2000" spc="-1" strike="noStrike">
                <a:solidFill>
                  <a:srgbClr val="ccecff"/>
                </a:solidFill>
                <a:latin typeface="Verdana"/>
              </a:rPr>
              <a:t>Indicazioni per il curricol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Traguardi e Obiettivi di apprendi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Sono </a:t>
            </a:r>
            <a:r>
              <a:rPr b="1" lang="it-IT" sz="2000" spc="-1" strike="noStrike">
                <a:solidFill>
                  <a:srgbClr val="ff0000"/>
                </a:solidFill>
                <a:latin typeface="Verdana"/>
              </a:rPr>
              <a:t>obiettivi ritenuti strategi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al fine di raggiungere i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traguardi per lo sviluppo delle competenz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previsti dalle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ndicazion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Propongono oggetti conoscitivi: </a:t>
            </a:r>
            <a:r>
              <a:rPr b="0" lang="it-IT" sz="2000" spc="-1" strike="noStrike">
                <a:solidFill>
                  <a:srgbClr val="cc6600"/>
                </a:solidFill>
                <a:latin typeface="Verdana"/>
              </a:rPr>
              <a:t>Conoscenz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e </a:t>
            </a:r>
            <a:r>
              <a:rPr b="1" lang="it-IT" sz="2000" spc="-1" strike="noStrike">
                <a:solidFill>
                  <a:srgbClr val="00b050"/>
                </a:solidFill>
                <a:latin typeface="Verdana"/>
              </a:rPr>
              <a:t>Abilit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DEFINITI AL TERMINE DELL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E TERZA DELLA SCUOLA PRIMARIA (</a:t>
            </a:r>
            <a:r>
              <a:rPr b="1" i="1" lang="it-IT" sz="1600" spc="-1" strike="noStrike">
                <a:solidFill>
                  <a:srgbClr val="ffffff"/>
                </a:solidFill>
                <a:latin typeface="Verdana"/>
              </a:rPr>
              <a:t>escluso musica, educazione fisica, tecnologia, arte e immagin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E QUINTA DELLA SCUOLA PRIMARI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E TERZA DELLA SCUOLA SECONDARIA DI I PRIMO GRAD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Obiettivi di apprendimen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Oval 4"/>
          <p:cNvSpPr/>
          <p:nvPr/>
        </p:nvSpPr>
        <p:spPr>
          <a:xfrm>
            <a:off x="1523880" y="5257800"/>
            <a:ext cx="2233800" cy="647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b76"/>
                </a:solidFill>
                <a:latin typeface="Verdana"/>
              </a:rPr>
              <a:t>conosc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Oval 5"/>
          <p:cNvSpPr/>
          <p:nvPr/>
        </p:nvSpPr>
        <p:spPr>
          <a:xfrm>
            <a:off x="5181480" y="5257800"/>
            <a:ext cx="2233800" cy="647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b76"/>
                </a:solidFill>
                <a:latin typeface="Verdana"/>
              </a:rPr>
              <a:t>abilit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826920" y="6324480"/>
            <a:ext cx="7201080" cy="2732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b76"/>
                </a:solidFill>
                <a:latin typeface="Verdana"/>
              </a:rPr>
              <a:t>TRAGUARDI PER LO SVILUPPO DELLE COMPET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AutoShape 7"/>
          <p:cNvSpPr/>
          <p:nvPr/>
        </p:nvSpPr>
        <p:spPr>
          <a:xfrm rot="10800000">
            <a:off x="3962520" y="5410080"/>
            <a:ext cx="1008000" cy="720720"/>
          </a:xfrm>
          <a:prstGeom prst="pi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urricolo verticale e progressiv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l’interno del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imo cicl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atica della continuità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educativa e didattica è resa perseguibile dalla presenza delle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tess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scipline,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comuni sia alla scuola primaria che alla scuola secondaria di primo grado.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continuità educativa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si realizza attraverso il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curricolo unitari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non per mezzo di progetti ad </a:t>
            </a:r>
            <a:r>
              <a:rPr b="0" i="1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ho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verticalità del curricol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è garantita dal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progressione e dalla gradualità dei </a:t>
            </a:r>
            <a:r>
              <a:rPr b="0" i="1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traguardi per lo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tra i vari segmenti scolastici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252360" y="189000"/>
            <a:ext cx="964872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ecff"/>
                </a:solidFill>
                <a:latin typeface="Arial"/>
              </a:rPr>
              <a:t>Unitarietà e progressione dei Traguardi/Competenze di base</a:t>
            </a:r>
            <a:br>
              <a:rPr sz="20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Esempio: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Discorsi e le parole/Italian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Verdana"/>
              </a:rPr>
              <a:t>Competenza: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Comunic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79280" y="2133720"/>
          <a:ext cx="8785440" cy="4508280"/>
        </p:xfrm>
        <a:graphic>
          <a:graphicData uri="http://schemas.openxmlformats.org/drawingml/2006/table">
            <a:tbl>
              <a:tblPr/>
              <a:tblGrid>
                <a:gridCol w="2156040"/>
                <a:gridCol w="6629400"/>
              </a:tblGrid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Scuo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ccff"/>
                          </a:solidFill>
                          <a:latin typeface="Arial"/>
                          <a:ea typeface="Times New Roman"/>
                        </a:rPr>
                        <a:t>TRAGUARDI PER LO SVILUPPO DELLE COMPETENZE E COMPETENZE DI 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Infanz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  <a:ea typeface="Times New Roman"/>
                        </a:rPr>
                        <a:t>Sviluppa fiducia e motivazione nell’esprimere e comunicare agli altri le proprie emozioni, le proprie domande, i propri ragionamenti e i propri pensieri attraverso il linguaggio verbale, utilizzandolo in modo differenziato e appropriato nelle diverse attività.</a:t>
                      </a: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Primar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L’alunno partecipa a scambi comunicativi con compagni e docenti (conversazione, discussione, scambi epistolari…) attraverso messaggi semplici, chiari e pertinenti, formulati in un registro il più possibile adeguato alla situazion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7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Secondaria di I grad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_________________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Secondaria di II grad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(bienni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  <a:ea typeface="Times New Roman"/>
                        </a:rPr>
                        <a:t>Usa in modo efficace la comunicazione orale e scritta per collaborare con gli altri, per esempio nella realizzazione di giochi, nell’elaborazione di progetti e nella valutazione dell’efficacia di diverse soluzioni di un problem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________________________________________________________________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-Padroneggia gli strumenti espressivi ed argomentativi indispensabili per gestire   l’interazione comunicativa verbale in vari contesti;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-</a:t>
                      </a: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  <a:ea typeface="Times New Roman"/>
                        </a:rPr>
                        <a:t>Produrre testi di vario tipo in relazione ai differenti scopi comunicativ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Traguardi e certificazione delle competenz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I traguardi in quanto competenze previste al termine di un titolo di studio devono essere attentamente certifica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La certificazione delle competenze non ha senso se non è riferita ad un curricolo per competenze definito a livello di istitu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ertificazione delle competenz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Processo/Prodotto successivo alle procedure di valutazione, mediante il quale la scuola attesta a terzi l’autenticità, validità e attendibilità delle competenze conseguite al termine di un percorso di studi, in maniera tale che dette competenze possano essere riconosciute all’esterno da diverse agenzi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ecff"/>
                </a:solidFill>
                <a:latin typeface="Arial"/>
              </a:rPr>
              <a:t>Certificazione delle competenze: </a:t>
            </a:r>
            <a:br>
              <a:rPr sz="3200"/>
            </a:br>
            <a:r>
              <a:rPr b="1" lang="it-IT" sz="3200" spc="-1" strike="noStrike">
                <a:solidFill>
                  <a:srgbClr val="ccecff"/>
                </a:solidFill>
                <a:latin typeface="Arial"/>
              </a:rPr>
              <a:t>traguardi e </a:t>
            </a:r>
            <a:r>
              <a:rPr b="1" i="1" lang="it-IT" sz="3200" spc="-1" strike="noStrike">
                <a:solidFill>
                  <a:srgbClr val="ccecff"/>
                </a:solidFill>
                <a:latin typeface="Arial"/>
              </a:rPr>
              <a:t>descrittori di competenz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a certificazione delle competenze sarebbe più opportuno che fosse riferita ad appositi descrittori riferiti a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traguardi di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poiché (talvolta) questi ultimi risultano essere troppo amp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cessità di articolare i “traguardi” in “descrittori” di competen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Sono i descrittori che danno conto della personalizzazione dei percorsi formativi, sia rispetto ai livelli di essenzialità delle competenze che ai “talenti” personali manifestati dagli alunn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Dal programma alla programmazion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Verdana"/>
              </a:rPr>
              <a:t>Programma: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- Il manifesto culturale nazionale scritto dal legislatore che esplicita obiettivi e contenuti disciplinar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Caratteristiche principali: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Validità nazion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Prescrittivit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Verdana"/>
              </a:rPr>
              <a:t>Programmazione: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L’edizione locale del manifesto nazionale, che tiene conto delle specificità dei contesti e dei soggetti coinvolti nel processo formativ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Caratteristiche principal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Dimensione loc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Flessibilità didattico-organizzati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Programmazione educati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Programmazione didatt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it-IT" sz="5400" spc="-1" strike="noStrike">
                <a:solidFill>
                  <a:srgbClr val="c00000"/>
                </a:solidFill>
                <a:latin typeface="Arial"/>
              </a:rPr>
              <a:t>Come progettare </a:t>
            </a:r>
            <a:br>
              <a:rPr sz="5400"/>
            </a:br>
            <a:r>
              <a:rPr b="1" i="1" lang="it-IT" sz="5400" spc="-1" strike="noStrike">
                <a:solidFill>
                  <a:srgbClr val="c00000"/>
                </a:solidFill>
                <a:latin typeface="Arial"/>
              </a:rPr>
              <a:t>in concreto</a:t>
            </a:r>
            <a:br>
              <a:rPr sz="5400"/>
            </a:br>
            <a:r>
              <a:rPr b="1" i="1" lang="it-IT" sz="5400" spc="-1" strike="noStrike">
                <a:solidFill>
                  <a:srgbClr val="c00000"/>
                </a:solidFill>
                <a:latin typeface="Arial"/>
              </a:rPr>
              <a:t>il curricolo di scuola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66"/>
                </a:solidFill>
                <a:latin typeface="Arial"/>
              </a:rPr>
              <a:t>Provvedimenti europei e nazionali sul curricolo per competenze</a:t>
            </a: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445240" cy="4441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Raccomandazione del Parlamento europeo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   </a:t>
            </a: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e del Consiglio del 18 dic. 2006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Nuovo obbligo di istruzione a 16 anni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  </a:t>
            </a: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(L. 26 dic. 2006, n. 296 e Decreto 22 ago. 2007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Indicazioni Nazionali per il curricolo (infanzia/I ciclo – 2012; Licei-Linee Guida IT e IP - 2011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692360" y="249228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ecff"/>
                </a:solidFill>
                <a:latin typeface="Arial"/>
              </a:rPr>
              <a:t>Il modello di progettazione dalle recenti politiche europee e nazionali per l’istruzion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2895480" y="1143000"/>
            <a:ext cx="5637240" cy="276480"/>
          </a:xfrm>
          <a:prstGeom prst="rect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Competenze chiave per l’apprendimento permanent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3643200" y="4005360"/>
            <a:ext cx="5321520" cy="785520"/>
          </a:xfrm>
          <a:prstGeom prst="rect">
            <a:avLst/>
          </a:prstGeom>
          <a:solidFill>
            <a:srgbClr val="ffcc66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Verdana"/>
              </a:rPr>
              <a:t>Discipl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2987640" y="2781360"/>
            <a:ext cx="5543640" cy="276480"/>
          </a:xfrm>
          <a:prstGeom prst="rect">
            <a:avLst/>
          </a:prstGeom>
          <a:solidFill>
            <a:srgbClr val="ff6699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Competenze di base dell’obbligo di istruzion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1908000" y="4005360"/>
            <a:ext cx="1697040" cy="6426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Verdana"/>
              </a:rPr>
              <a:t>Campi di esperienz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1908000" y="5229360"/>
            <a:ext cx="7056720" cy="368280"/>
          </a:xfrm>
          <a:prstGeom prst="rect">
            <a:avLst/>
          </a:prstGeom>
          <a:solidFill>
            <a:srgbClr val="ccff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Verdana"/>
              </a:rPr>
              <a:t>Traguardi per lo sviluppo delle compet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7238880" y="51055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Line 16"/>
          <p:cNvSpPr/>
          <p:nvPr/>
        </p:nvSpPr>
        <p:spPr>
          <a:xfrm>
            <a:off x="4572000" y="2286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Line 21"/>
          <p:cNvSpPr/>
          <p:nvPr/>
        </p:nvSpPr>
        <p:spPr>
          <a:xfrm>
            <a:off x="378000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Text Box 32"/>
          <p:cNvSpPr/>
          <p:nvPr/>
        </p:nvSpPr>
        <p:spPr>
          <a:xfrm>
            <a:off x="3132000" y="5950080"/>
            <a:ext cx="5400720" cy="337320"/>
          </a:xfrm>
          <a:prstGeom prst="rect">
            <a:avLst/>
          </a:prstGeom>
          <a:solidFill>
            <a:srgbClr val="66ffcc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Verdana"/>
              </a:rPr>
              <a:t>Obiettivi di apprendimento (abilità e conoscenz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Line 37"/>
          <p:cNvSpPr/>
          <p:nvPr/>
        </p:nvSpPr>
        <p:spPr>
          <a:xfrm flipH="1" flipV="1">
            <a:off x="1692000" y="1267920"/>
            <a:ext cx="44280" cy="487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Text Box 39"/>
          <p:cNvSpPr/>
          <p:nvPr/>
        </p:nvSpPr>
        <p:spPr>
          <a:xfrm>
            <a:off x="2987640" y="1905120"/>
            <a:ext cx="5472000" cy="276480"/>
          </a:xfrm>
          <a:prstGeom prst="rect">
            <a:avLst/>
          </a:prstGeom>
          <a:solidFill>
            <a:srgbClr val="ffff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Competenze chiave di cittadinanza per l’obbligo scolastic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Line 42"/>
          <p:cNvSpPr/>
          <p:nvPr/>
        </p:nvSpPr>
        <p:spPr>
          <a:xfrm>
            <a:off x="4572000" y="1523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 Box 43"/>
          <p:cNvSpPr/>
          <p:nvPr/>
        </p:nvSpPr>
        <p:spPr>
          <a:xfrm>
            <a:off x="4572000" y="3068640"/>
            <a:ext cx="1152360" cy="459000"/>
          </a:xfrm>
          <a:prstGeom prst="rect">
            <a:avLst/>
          </a:prstGeom>
          <a:solidFill>
            <a:srgbClr val="ffffcc"/>
          </a:solidFill>
          <a:ln w="1908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matematic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44"/>
          <p:cNvSpPr/>
          <p:nvPr/>
        </p:nvSpPr>
        <p:spPr>
          <a:xfrm>
            <a:off x="3059280" y="3068640"/>
            <a:ext cx="1511280" cy="276480"/>
          </a:xfrm>
          <a:prstGeom prst="rect">
            <a:avLst/>
          </a:prstGeom>
          <a:solidFill>
            <a:srgbClr val="ffcccc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dei linguaggi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Text Box 45"/>
          <p:cNvSpPr/>
          <p:nvPr/>
        </p:nvSpPr>
        <p:spPr>
          <a:xfrm>
            <a:off x="5724360" y="3068640"/>
            <a:ext cx="1511640" cy="459000"/>
          </a:xfrm>
          <a:prstGeom prst="rect">
            <a:avLst/>
          </a:prstGeom>
          <a:solidFill>
            <a:srgbClr val="66cc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scientifico-tecnologic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 Box 47"/>
          <p:cNvSpPr/>
          <p:nvPr/>
        </p:nvSpPr>
        <p:spPr>
          <a:xfrm>
            <a:off x="7236000" y="3068640"/>
            <a:ext cx="1223640" cy="459000"/>
          </a:xfrm>
          <a:prstGeom prst="rect">
            <a:avLst/>
          </a:prstGeom>
          <a:solidFill>
            <a:srgbClr val="ffcccc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storico-socia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Line 48"/>
          <p:cNvSpPr/>
          <p:nvPr/>
        </p:nvSpPr>
        <p:spPr>
          <a:xfrm>
            <a:off x="514836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Line 49"/>
          <p:cNvSpPr/>
          <p:nvPr/>
        </p:nvSpPr>
        <p:spPr>
          <a:xfrm>
            <a:off x="644364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Line 50"/>
          <p:cNvSpPr/>
          <p:nvPr/>
        </p:nvSpPr>
        <p:spPr>
          <a:xfrm>
            <a:off x="788508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Line 57"/>
          <p:cNvSpPr/>
          <p:nvPr/>
        </p:nvSpPr>
        <p:spPr>
          <a:xfrm>
            <a:off x="4500720" y="486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Line 58"/>
          <p:cNvSpPr/>
          <p:nvPr/>
        </p:nvSpPr>
        <p:spPr>
          <a:xfrm>
            <a:off x="6300720" y="486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Line 59"/>
          <p:cNvSpPr/>
          <p:nvPr/>
        </p:nvSpPr>
        <p:spPr>
          <a:xfrm>
            <a:off x="8101080" y="486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Line 60"/>
          <p:cNvSpPr/>
          <p:nvPr/>
        </p:nvSpPr>
        <p:spPr>
          <a:xfrm>
            <a:off x="5796000" y="566100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Line 61"/>
          <p:cNvSpPr/>
          <p:nvPr/>
        </p:nvSpPr>
        <p:spPr>
          <a:xfrm>
            <a:off x="2700360" y="4653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Line 62"/>
          <p:cNvSpPr/>
          <p:nvPr/>
        </p:nvSpPr>
        <p:spPr>
          <a:xfrm>
            <a:off x="1763640" y="616572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Line 64"/>
          <p:cNvSpPr/>
          <p:nvPr/>
        </p:nvSpPr>
        <p:spPr>
          <a:xfrm>
            <a:off x="1692360" y="206064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Line 65"/>
          <p:cNvSpPr/>
          <p:nvPr/>
        </p:nvSpPr>
        <p:spPr>
          <a:xfrm>
            <a:off x="1692360" y="126828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Line 66"/>
          <p:cNvSpPr/>
          <p:nvPr/>
        </p:nvSpPr>
        <p:spPr>
          <a:xfrm>
            <a:off x="1692360" y="29242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 Box 67"/>
          <p:cNvSpPr/>
          <p:nvPr/>
        </p:nvSpPr>
        <p:spPr>
          <a:xfrm>
            <a:off x="179280" y="1125360"/>
            <a:ext cx="1297080" cy="8946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Dimensione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formativa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del Curricolo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Text Box 68"/>
          <p:cNvSpPr/>
          <p:nvPr/>
        </p:nvSpPr>
        <p:spPr>
          <a:xfrm>
            <a:off x="179280" y="2781360"/>
            <a:ext cx="1297080" cy="3435480"/>
          </a:xfrm>
          <a:prstGeom prst="rect">
            <a:avLst/>
          </a:prstGeom>
          <a:solidFill>
            <a:srgbClr val="ffcc66"/>
          </a:solidFill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Dimensione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didattica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del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Curricolo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AutoShape 69"/>
          <p:cNvSpPr/>
          <p:nvPr/>
        </p:nvSpPr>
        <p:spPr>
          <a:xfrm>
            <a:off x="1547640" y="1197000"/>
            <a:ext cx="71640" cy="936720"/>
          </a:xfrm>
          <a:custGeom>
            <a:avLst/>
            <a:gdLst>
              <a:gd name="textAreaLeft" fmla="*/ 45720 w 71640"/>
              <a:gd name="textAreaRight" fmla="*/ 72000 w 71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71"/>
          <p:cNvSpPr/>
          <p:nvPr/>
        </p:nvSpPr>
        <p:spPr>
          <a:xfrm>
            <a:off x="1547640" y="2852640"/>
            <a:ext cx="71640" cy="3384720"/>
          </a:xfrm>
          <a:custGeom>
            <a:avLst/>
            <a:gdLst>
              <a:gd name="textAreaLeft" fmla="*/ 45720 w 71640"/>
              <a:gd name="textAreaRight" fmla="*/ 72000 w 7164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Competenze chiave per l’apprendimento permanen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unicare nella lingua mad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unicazione in lingue stranie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petenza matematica e competenza di base in campo scientifico e tecnologico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petenza digit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Imparare a impara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petenze sociali e civich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Spirito di iniziativa e di imprenditorialit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nsapevolezza ed espressione culturali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ecff"/>
                </a:solidFill>
                <a:latin typeface="Arial"/>
              </a:rPr>
              <a:t>Competenze chiave di cittadinanza da acquisire al termine dell’istruzione obbligatoria</a:t>
            </a:r>
            <a:r>
              <a:rPr b="1" lang="it-IT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ccecff"/>
                </a:solidFill>
                <a:latin typeface="Arial"/>
              </a:rPr>
              <a:t>(Allegato 2», Decreto 22 agosto 2007)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cc66"/>
                </a:solidFill>
                <a:latin typeface="Verdana"/>
              </a:rPr>
              <a:t>Costruzione del sé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1. Imparare ad imparare</a:t>
            </a:r>
            <a:r>
              <a:rPr b="0" lang="it-IT" sz="14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organizzare il proprio apprendimento, individuando, scegliendo ed utilizzando varie fonti e varie modalità di informazione e di formazione (formale, non formale ed informale), anche in funzione dei tempi disponibili, delle proprie strategie e del proprio metodo di lavoro e di studio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2. Progettare</a:t>
            </a:r>
            <a:r>
              <a:rPr b="0" lang="it-IT" sz="14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formulare progetti riguardanti lo sviluppo delle proprie attività di studio e di lavoro, utilizzando le conoscenze apprese per stabilire obiettivi significativi e realistici e le relative priorità, valutando i vincoli e le possibilità esistenti, definendo  strategie di azione e verificando i risultati raggiunti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cc66"/>
                </a:solidFill>
                <a:latin typeface="Verdana"/>
              </a:rPr>
              <a:t>Relazioni con gli altri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3. Comunicare</a:t>
            </a:r>
            <a:r>
              <a:rPr b="1" lang="it-IT" sz="12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1" lang="it-IT" sz="12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it-IT" sz="1200" spc="-1" strike="noStrike">
                <a:solidFill>
                  <a:srgbClr val="ffffcc"/>
                </a:solidFill>
                <a:latin typeface="Verdana"/>
              </a:rPr>
              <a:t>comprendere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 messaggi di genere diverso (quotidiano, letterario, tecnico, scientifico) e di complessità diversa, trasmessi utilizzando linguaggi diversi (verbale, matematico, scientifico, simbolico, ecc.) mediante diversi supporti (cartacei, informatici e multimediali)</a:t>
            </a:r>
            <a:r>
              <a:rPr b="0" i="1" lang="it-IT" sz="12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it-IT" sz="1200" spc="-1" strike="noStrike">
                <a:solidFill>
                  <a:srgbClr val="ffffcc"/>
                </a:solidFill>
                <a:latin typeface="Verdana"/>
              </a:rPr>
              <a:t>rappresentare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 eventi, fenomeni, principi, concetti, norme, procedure, atteggiamenti, stati d’animo, emozioni, ecc. utilizzando linguaggi diversi (verbale, matematico, scientifico, simbolico, ecc.) e diverse conoscenze disciplinari, mediante diversi supporti (cartacei, informatici e multimediali).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4. Collaborare e partecipare:</a:t>
            </a:r>
            <a:r>
              <a:rPr b="0" i="1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interagire in gruppo, comprendendo i diversi punti di vista, contribuendo all’apprendimento comune ed alla realizzazione delle attività collettive, nel riconoscimento dei diritti fondamentali degli altri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5. Agire in modo autonomo e responsabile:</a:t>
            </a:r>
            <a:r>
              <a:rPr b="1" lang="it-IT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sapersi inserire in modo attivo e consapevole nella vita sociale e far valere al suo interno i propri diritti e bisogni riconoscendo al contempo quelli altrui, le opportunità comuni, i limiti, le regole le responsabilità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cc66"/>
                </a:solidFill>
                <a:latin typeface="Verdana"/>
              </a:rPr>
              <a:t>Positiva interazione con la realtà naturale e social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6. Risolvere problemi</a:t>
            </a:r>
            <a:r>
              <a:rPr b="0" lang="it-IT" sz="14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ffrontare situazioni problematiche costruendo e verificando ipotesi, individuando le fonti, raccogliendo e valutando i dati, proponendo soluzioni utilizzando, secondo il tipo di problema, contenuti e metodi delle diverse discipline.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7. Individuare collegamenti e relazioni: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individuare e rappresentare, elaborando argomentazioni coerenti, collegamenti e relazioni tra fenomeni, eventi e concetti diversi, anche appartenenti a diversi ambiti disciplinari, e lontani nello spazio e nel tempo, cogliendone la natura sistemica, individuando analogie e differenze, coerenze ed incoerenze, cause ed effetti e la loro natura probabilistica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8. Acquisire ed interpretare l’informazione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cquisire ed interpretare criticamente l’informazione ricevuta nei diversi ambiti ed attraverso diversi strumenti comunicativi, valutandone l’attendibilità e l’utilità, distinguendo fatti e opinioni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Competenze chiave di cittadinanza</a:t>
            </a:r>
            <a:br>
              <a:rPr sz="3600"/>
            </a:br>
            <a:r>
              <a:rPr b="1" i="1" lang="it-IT" sz="3600" spc="-1" strike="noStrike">
                <a:solidFill>
                  <a:srgbClr val="ccecff"/>
                </a:solidFill>
                <a:latin typeface="Arial"/>
              </a:rPr>
              <a:t>(dimensione formativa del curricolo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9402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cc"/>
                </a:solidFill>
                <a:latin typeface="Verdana"/>
              </a:rPr>
              <a:t>Le competenze chiave di cittadinanza sono un punto di riferimento formativo </a:t>
            </a:r>
            <a:r>
              <a:rPr b="0" lang="it-IT" sz="3200" spc="-1" strike="noStrike" u="sng">
                <a:solidFill>
                  <a:srgbClr val="ffffcc"/>
                </a:solidFill>
                <a:uFillTx/>
                <a:latin typeface="Verdana"/>
              </a:rPr>
              <a:t>per tutta la scuola dell’obbligo</a:t>
            </a:r>
            <a:r>
              <a:rPr b="0" lang="it-IT" sz="3200" spc="-1" strike="noStrike">
                <a:solidFill>
                  <a:srgbClr val="ffffcc"/>
                </a:solidFill>
                <a:latin typeface="Verdana"/>
              </a:rPr>
              <a:t>, esse però vanno </a:t>
            </a:r>
            <a:r>
              <a:rPr b="0" i="1" lang="it-IT" sz="3200" spc="-1" strike="noStrike">
                <a:solidFill>
                  <a:srgbClr val="ffffcc"/>
                </a:solidFill>
                <a:latin typeface="Verdana"/>
              </a:rPr>
              <a:t>“descritte”</a:t>
            </a:r>
            <a:r>
              <a:rPr b="0" lang="it-IT" sz="3200" spc="-1" strike="noStrike">
                <a:solidFill>
                  <a:srgbClr val="ffffcc"/>
                </a:solidFill>
                <a:latin typeface="Verdana"/>
              </a:rPr>
              <a:t> in base all’ordine e grado di scuola e all’età degli alun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cc66"/>
                </a:solidFill>
                <a:latin typeface="Arial"/>
              </a:rPr>
              <a:t>Assi culturali dell’obbligo di istruzione</a:t>
            </a:r>
            <a:br>
              <a:rPr sz="3400"/>
            </a:br>
            <a:r>
              <a:rPr b="1" lang="it-IT" sz="3400" spc="-1" strike="noStrike">
                <a:solidFill>
                  <a:srgbClr val="ffcc66"/>
                </a:solidFill>
                <a:latin typeface="Arial"/>
              </a:rPr>
              <a:t>(I biennio)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dei linguaggi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matematic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scientifico-tecnologic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storico-socia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Assi culturali e competenze di base (1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50920" y="1268280"/>
          <a:ext cx="8713800" cy="5283360"/>
        </p:xfrm>
        <a:graphic>
          <a:graphicData uri="http://schemas.openxmlformats.org/drawingml/2006/table">
            <a:tbl>
              <a:tblPr/>
              <a:tblGrid>
                <a:gridCol w="2160360"/>
                <a:gridCol w="6553440"/>
              </a:tblGrid>
              <a:tr h="78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ss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ultu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ompetenze di 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 conclusione dell’obbligo di istruzi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12254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As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dei linguagg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adronanza della lingua italiana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adroneggiare gli strumenti espressivi ed argomentativi indispensabili per gestire l’interazione comunicativa verbale in vari contesti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Leggere, comprendere ed interpretare testi scritti di vario tipo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rodurre testi di vario tipo in relazione ai differenti scopi comunicativ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37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una lingua straniera per i principali scopi comunicativi ed operativ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gli strumenti fondamentali per una fruizione consapevole del patrimonio artistico e letterari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e produrre testi multimedial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202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s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matema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le tecniche e le procedure del calcolo aritmetico ed algebrico, rappresentandole anche sotto forma grafic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nfrontare ed analizzare figure geometriche, individuando varianti e relazion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7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ndividuare le strategie appropriate per la soluzione di problem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9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nalizzare dati e interpretarli sviluppando deduzioni e ragionamenti sugli stessi anche con l’ausilio di rappresentazioni grafiche, usando consapevolmente gli strumenti di calcolo e le potenzialità offerte da applicazioni specifiche di tipo informatic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Assi culturali e competenze di base (2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395280" y="1341360"/>
          <a:ext cx="8229600" cy="5186520"/>
        </p:xfrm>
        <a:graphic>
          <a:graphicData uri="http://schemas.openxmlformats.org/drawingml/2006/table">
            <a:tbl>
              <a:tblPr/>
              <a:tblGrid>
                <a:gridCol w="1954080"/>
                <a:gridCol w="6275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ss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ultu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ompetenze di 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 conclusione dell’obbligo di istruzi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733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Ass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scientifico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tecnolo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Osservare, descrivere ed analizzare fenomeni appartenenti alla realtà naturale e artificiale e riconoscere nelle sue varie forme i concetti di sistema e di complessità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9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nalizzare qualitativamente e quantitativamente fenomeni legati alle trasformazioni di energia a partire dall’esperienz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1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Essere consapevoli delle potenzialità e dei limiti delle tecnologie nel contesto culturale e sociale in cui vengono applicat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79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ss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storico-soci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mprendere il cambiamento e la diversità dei tempi storici in una dimensione diacronica attraverso il confronto fra epoche e in una dimensione sincronica attraverso il confronto fra aree geografiche e cultural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88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llocare l’esperienza personale in un sistema di regole fondato sul reciproco riconoscimento dei diritti garantiti dalla Costituzione, a tutela della persona, della collettività e dell’ambient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8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Riconoscere le caratteristiche essenziali del sistema socio economico per orientarsi nel tessuto produttivo del proprio territori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ecff"/>
                </a:solidFill>
                <a:latin typeface="Arial"/>
              </a:rPr>
              <a:t>Competenze , abilità, conoscenze</a:t>
            </a:r>
            <a:br>
              <a:rPr sz="2800"/>
            </a:br>
            <a:r>
              <a:rPr b="1" i="1" lang="it-IT" sz="2000" spc="-1" strike="noStrike">
                <a:solidFill>
                  <a:srgbClr val="ccecff"/>
                </a:solidFill>
                <a:latin typeface="Arial"/>
              </a:rPr>
              <a:t>(Decreto 22 agosto 2007, Nuovo obbligo di istruzione)</a:t>
            </a: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79280" y="1600200"/>
          <a:ext cx="8713800" cy="4924440"/>
        </p:xfrm>
        <a:graphic>
          <a:graphicData uri="http://schemas.openxmlformats.org/drawingml/2006/table">
            <a:tbl>
              <a:tblPr/>
              <a:tblGrid>
                <a:gridCol w="2146320"/>
                <a:gridCol w="3202200"/>
                <a:gridCol w="336528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66cc"/>
                          </a:solidFill>
                          <a:latin typeface="Arial"/>
                          <a:ea typeface="Times New Roman"/>
                        </a:rPr>
                        <a:t>Competen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66cc"/>
                          </a:solidFill>
                          <a:latin typeface="Arial"/>
                          <a:ea typeface="Times New Roman"/>
                        </a:rPr>
                        <a:t>Abilit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66cc"/>
                          </a:solidFill>
                          <a:latin typeface="Arial"/>
                          <a:ea typeface="Times New Roman"/>
                        </a:rPr>
                        <a:t>Conoscen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50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adroneggiare gli strumenti espressivi ed argomentativi indispensabili per gestire l’inter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municativa verbal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n vari conte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mprendere il messaggio contenuto in un testo or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gliere le relazioni logiche tra le varie componenti di un testo or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Esporre in modo chiaro, logico e coerente esperienze vissute o testi ascoltat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Riconoscere differenti registri comunicativi di un testo or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ffrontare molteplici situazioni comunicative scambiando informazioni e idee per esprimere anche il proprio punto di vis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ndividuare il punto di vista dell’altro in contesti formali e informal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rincipali strutture grammaticali della lingua italia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Elementi di base delle funzioni della lin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Lessico fondamentale per la gestione di semplici comunicazioni orali in contesti formali e informal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ntesto, scopo e destinatario della comunicazi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dici fondamentali della comunicazione orale, verbale e non verb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rincipi di organizzazione del discorso, narrativo, espositivo, argomenta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856800"/>
            <a:ext cx="822960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Che cos’è il curricolo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040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ff0000"/>
                </a:solidFill>
                <a:uFillTx/>
                <a:latin typeface="Arial"/>
              </a:rPr>
              <a:t>II biennio e V anno</a:t>
            </a: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66ffcc"/>
                </a:solidFill>
                <a:latin typeface="Arial"/>
              </a:rPr>
              <a:t>Licei e IT/IP - Vincoli normativi diversi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cc"/>
                </a:solidFill>
                <a:latin typeface="Verdana"/>
              </a:rPr>
              <a:t>Legge N° 53/03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(Moratti): in parte modificata dal Regolamen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6600"/>
                </a:solidFill>
                <a:latin typeface="Verdana"/>
              </a:rPr>
              <a:t>D.L. N° 226/05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: non attuato, ma vigen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66"/>
                </a:solidFill>
                <a:latin typeface="Verdana"/>
              </a:rPr>
              <a:t>Legge N° 40/07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(Fioroni): Scorporo Lice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Ist. Economici e Tecnologici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cc"/>
                </a:solidFill>
                <a:latin typeface="Verdana"/>
              </a:rPr>
              <a:t>Regolamenti 15.3.10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(Gelmini): Linee guid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a) Regolamento I.T. (15.3.10)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13840" y="785880"/>
            <a:ext cx="875052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Verdana"/>
              </a:rPr>
              <a:t>Disposto regolament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Allegato 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Profilo educativo, culturale e professiona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sultati di apprendimento comun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sultati di apprendimento del settore econom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sultati di apprendimento del settore tecnolog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Strumenti organizzativi e metodologic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Allegato B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- Settore economico - Due indirizzi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Quadro orario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Insegnamenti generali comuni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Insegnamenti obbligatori d'indirizz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filo in uscita (Risultati di apprendimento e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competenz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B1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- Ind. AMMININ.-FINANZA-MARKE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rticolazione: Relazioni internaz. per il marke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rticolazione: Sistemi informativi aziendal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B2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– Ind. TURISM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llegato C - Settore Tecnologico – Nove indirizz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llegato D – Tabella di confluenz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b) Regolamento I.P. (15.3.10)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13840" y="1025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Verdana"/>
              </a:rPr>
              <a:t>Disposto regolamentar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Profilo educativo, culturale e professional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Risultati di apprendimento comuni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Risultati di apprendimento del settore economico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Risultati di apprendimento del settore tecnologico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Strumenti organizzativi e metodologic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B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- Settore economico - Quattro indirizzi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Quadro orario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Insegnamenti generali comuni  (area istruz. gen.)     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Insegnamenti obbligatori d'indirizzo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Profilo in uscita (Risultati di apprendimento e competenze)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1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 Servizi per l'agricoltura e sviluppo rurale             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2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Servizi socio-sanitar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3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Servizi per l'enogastronomia e l'ospitalità alb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4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Servizi commercial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C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- Settore  industria e artigianato – Due indirizzi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C1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 Produzioni industriali e artigianal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                    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C2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– Manutenzione e assistenza tecnic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D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Tabella di confluenz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) Regolamento Licei (15.3.10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Verdana"/>
              </a:rPr>
              <a:t>Disposto regolamentar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66ffcc"/>
                </a:solidFill>
                <a:latin typeface="Verdana"/>
              </a:rPr>
              <a:t>Allegati A–G</a:t>
            </a:r>
            <a:r>
              <a:rPr b="1" lang="it-IT" sz="2600" spc="-1" strike="noStrike">
                <a:solidFill>
                  <a:srgbClr val="ffffff"/>
                </a:solidFill>
                <a:latin typeface="Verdana"/>
              </a:rPr>
              <a:t>:  Piano degli studi 5 Licei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Verdana"/>
              </a:rPr>
              <a:t>Per ogni Liceo e disciplina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-Profili generali e competenze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-Obiettivi specifici di apprendiment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it-IT" sz="2600" spc="-1" strike="noStrike">
                <a:solidFill>
                  <a:srgbClr val="ffffff"/>
                </a:solidFill>
                <a:latin typeface="Verdana"/>
              </a:rPr>
              <a:t>Indicazioni nazionali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Riferimenti bibliografic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1643040"/>
            <a:ext cx="8929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Ajello A.M., Pontecorvo C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. Teoria e pratica dell’innovazione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La Nuova Italia, Firenze, 2002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Baldacci M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Ripensare il curricolo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Carocci, Roma, 2006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Bianco M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. Storia, teorie e modelli applicativi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06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ambi F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La progettazione curricolare nella scuola contemporane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Carocci, Roma, 2002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apperucci D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Dalla programmazione educativa e didattica alla progettazione curricolare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08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apperucci D., Cartei C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Curricolo e intercultur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10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erini G., Frabboni F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 di base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Tecnondid, Napoli, 2001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olombo A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 e l’educazione linguistica. Leggere le nuove Indicazioni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07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D’Amore B., Fandiño Pinilla M.I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Le didattiche disciplinari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Erickson, Gardolo (TN), 2007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D’Amore B., Manini M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Percorsi, labirinti e mappe. Esperienze protomatematiche nella scuola dell'infanzi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La Nuova Italia, Firenze, 1985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Fandiño Pinilla M.I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Curricolo e valutazione in matematic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Pitagora, Bologna, 2002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Perrenoud P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Costruire competenze a partire dalla scuol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Anicia, Roma, 2000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Autonomia scolastica e PO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Il POF è il documento fondamentale costitutivo dell’</a:t>
            </a:r>
            <a:r>
              <a:rPr b="1" lang="it-IT" sz="3200" spc="-1" strike="noStrike">
                <a:solidFill>
                  <a:srgbClr val="ffcc00"/>
                </a:solidFill>
                <a:latin typeface="Verdana"/>
              </a:rPr>
              <a:t>identità culturale e progettual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delle istituzioni scolastiche ed esplicita la </a:t>
            </a:r>
            <a:r>
              <a:rPr b="0" lang="it-IT" sz="3200" spc="-1" strike="noStrike">
                <a:solidFill>
                  <a:srgbClr val="ff0000"/>
                </a:solidFill>
                <a:latin typeface="Verdana"/>
              </a:rPr>
              <a:t>progettazione curricolare, extracurricolare, educativa e organizzativa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che le singole scuole adottano nell’ambito della loro autonomia” (DPR 275/99, art. 3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POF e Currico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523880"/>
            <a:ext cx="8896320" cy="41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Le istituzioni scolastiche determinano nel Piano dell’Offerta Formativa il </a:t>
            </a:r>
            <a:r>
              <a:rPr b="0" i="1" lang="it-IT" sz="4000" spc="-1" strike="noStrike">
                <a:solidFill>
                  <a:srgbClr val="ff6699"/>
                </a:solidFill>
                <a:latin typeface="Verdana"/>
              </a:rPr>
              <a:t>curricolo obbligatorio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 […]. Nell’attuazione del curricolo le istituzioni scolastiche precisano le scelte di flessibilità previste” (DPR 275/99, art. 8, co. 2)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Il Currico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9280" y="126828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3600" spc="-1" strike="noStrike">
                <a:solidFill>
                  <a:srgbClr val="ffffff"/>
                </a:solidFill>
                <a:latin typeface="Verdana"/>
              </a:rPr>
              <a:t>Percorso formativo intenzionale progettato dalle singole istituzioni scolastiche, tenuto conto dei bisogni della popolazione scolastica e delle risorse del territorio (F. Frabboni)”, nel rispetto sia dell’autonomia delle singole scuole che degli obiettivi generali del sistema di istruzione.</a:t>
            </a:r>
            <a:r>
              <a:rPr b="0" i="1" lang="it-IT" sz="3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Verdana"/>
              </a:rPr>
              <a:t>(Cfr. Frabboni F., </a:t>
            </a:r>
            <a:r>
              <a:rPr b="0" i="1" lang="it-IT" sz="1400" spc="-1" strike="noStrike">
                <a:solidFill>
                  <a:srgbClr val="ccecff"/>
                </a:solidFill>
                <a:latin typeface="Verdana"/>
              </a:rPr>
              <a:t>Le dieci parole della didattica</a:t>
            </a:r>
            <a:r>
              <a:rPr b="0" lang="it-IT" sz="1400" spc="-1" strike="noStrike">
                <a:solidFill>
                  <a:srgbClr val="ccecff"/>
                </a:solidFill>
                <a:latin typeface="Verdana"/>
              </a:rPr>
              <a:t>,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Verdana"/>
              </a:rPr>
              <a:t>Ethel Editoriale Giorgio Mondatori, Milano, 1994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Il curricolo non si </a:t>
            </a:r>
            <a:r>
              <a:rPr b="1" i="1" lang="it-IT" sz="4000" spc="-1" strike="noStrike">
                <a:solidFill>
                  <a:srgbClr val="ffcc66"/>
                </a:solidFill>
                <a:latin typeface="Arial"/>
              </a:rPr>
              <a:t>“programma” ma</a:t>
            </a:r>
            <a:r>
              <a:rPr b="1" lang="it-IT" sz="4000" spc="-1" strike="noStrike">
                <a:solidFill>
                  <a:srgbClr val="ffcc66"/>
                </a:solidFill>
                <a:latin typeface="Arial"/>
              </a:rPr>
              <a:t> si </a:t>
            </a:r>
            <a:r>
              <a:rPr b="1" i="1" lang="it-IT" sz="4000" spc="-1" strike="noStrike">
                <a:solidFill>
                  <a:srgbClr val="ffcc66"/>
                </a:solidFill>
                <a:latin typeface="Arial"/>
              </a:rPr>
              <a:t>“progetta”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47680" y="167616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Verdana"/>
              </a:rPr>
              <a:t>Programmazion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è l’organizzazione di un sapere dato (il programma) in sequenze temporali (spesso imposte dalla sistematica della disciplin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Verdana"/>
              </a:rPr>
              <a:t>Progettazion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è la costruzione originale di un percorso di “apprendimento insegnato” e quindi intenzionale definito a partire dall’analisi dei bisogni dei soggetti e del contes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5:20:00Z</dcterms:created>
  <dc:creator>davide</dc:creator>
  <dc:description/>
  <dc:language>en-US</dc:language>
  <cp:lastModifiedBy>Valued Acer Customer</cp:lastModifiedBy>
  <dcterms:modified xsi:type="dcterms:W3CDTF">2014-03-19T22:53:30Z</dcterms:modified>
  <cp:revision>150</cp:revision>
  <dc:subject/>
  <dc:title>Università degli Studi di Firenze Facoltà di Scienze della Formazione  Corso di Perfezionamento "La Formazione della Dirigenza Scolastica"   </dc:title>
</cp:coreProperties>
</file>