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E811-5289-48D9-A446-7674E254FE3F}" type="slidenum">
              <a:rPr b="0" lang="it-IT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8F9B-DEEA-4452-896D-17A01E3EEA6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201D-A315-4066-9C3A-D5981F24D27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F26A-B4D8-41A1-A8D2-8F93BAB5677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68DD-5FEA-440B-9F0D-51481FA8C95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4D46-7EB1-4232-9F9A-28ABEBE253A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B275-A785-487B-9C0C-DD719AB8DFA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57B3-08B2-47DC-80E7-40FD312AD33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1C76-7EE1-4180-8065-D5CE5FF2E20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4C06-829A-4379-ACD8-FE4287EC948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7254-BBE5-44A7-8516-91C372DE909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9EE2-C2D3-490D-BE4E-5DA013B6026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ADE-F80D-4C13-96F7-1F2F3174D52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B507-F566-46F8-9412-9C2AEF16813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EF05-C1C9-4F94-898A-469E725C467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3374-E6CC-4FAE-8CF8-36CA1E64343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AA9D-9E4D-482A-B0F6-96861D8E5DA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3D20-0679-4C0D-B333-6AF96FE4C45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0E3D-ACAD-425B-88A1-906935FE260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675E-F814-404A-BC7B-2B6CAA85B44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8817-09CC-4D68-8E21-1C9208CF2C6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5294-29D6-4011-A4FA-955C8FAB370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16D4-F9A7-4E10-AD5E-A7F92905996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4929-1C85-4569-8D6E-528DB99FE7C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CED1-180D-4A25-A573-B2DE1D1EB5D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72D6-6464-4A72-8EA9-94981223942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6DBA-2E2A-4519-B0FC-96DB5E0AF19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B37F-D428-49D7-8779-EE810F03CAA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046A-C67E-4108-B737-00761EF983D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C4D-4FEF-4782-9EEE-DE5EB655415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47E3-2F2B-43BF-9769-0C95E47E07C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AACC-C4A0-433B-BC04-F671E197039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B3E3-AB16-42DC-9165-4F6F3DAD803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F256-382E-4A44-8591-5FE3C0D958D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2FFF-F60F-4411-90A1-20718EE38B1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7831-453C-430A-813E-3D933BF56EB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EB5-637B-453A-961C-C33B558437F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022E-4349-4DD0-AEC7-BA6BB2C9119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8E12-84C5-4C54-BEB2-B99E287C401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E2F9-0AB6-495B-8EE8-7ACE250B4581}" type="slidenum">
              <a:rPr b="0" lang="it-IT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43F4-9A04-40E3-9B68-E5D4CE6F9D9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D66C-97FA-4A85-97DB-89029E1F5B7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EB38-99E7-415B-9D79-3BFAF559A9D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612-5B6E-4BDE-B775-44641BF60EE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AA15-B389-466E-B099-27FBFCBF15A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A214-B103-4EE1-87D6-ECE03798901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19D-469B-42B6-BBBF-F6D14B05B1B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716A-76BC-4FA9-B4A3-D07B95864F9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3001-3314-4E96-9F08-2A8FAD2706C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A0E-BB61-41B9-825D-BB0469F0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556-E698-4C85-9AF1-CAAB5419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DFA-00AF-43D8-B03E-169F8546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2D3-EBBA-4D2D-B9A3-D7F917A9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CC8B-1D20-48AB-A3E7-07CA86A6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FD24-E04D-4849-92CC-58062F6F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B36E-7D84-433F-80B3-152C4DC8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E639-D418-4213-84BA-25471B26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140B-6BBE-4CB5-B3D2-92BB86B7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E012-24B0-4306-AE7C-0F6772D5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6DFE-3715-4CD0-B654-A8E9266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A01-8DAA-4D27-90FF-85978A9C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60F6-8EAE-4C2F-997E-9DEA9C0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9E56-7565-4497-AA64-7DF5BF5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F7C6-EBBE-4471-8AB7-78787627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8A0C-D09B-4090-9B46-E522742B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829C-DFEF-4C9B-947A-E76017BC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B12-F0AA-4883-8B75-7697F8A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47B-60F3-49F7-BAD0-FC3BDD14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2A0-D3AE-44AC-81B3-4B5DBB8F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107-FAA8-4169-8F70-C2505032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81F-0FFE-46F4-A6DF-FDFC589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103-61B6-4C28-9C0C-E9C7027D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D51-927A-4DE6-B576-4D555715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CBC4-3EE6-4375-AAF6-D5B03596A6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6B36-B6DC-482B-9633-E416A430076D}" type="slidenum"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9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6EE4-E204-4F0A-81FD-1DB5BD13AD7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PAS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–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Univ. di Pisa</a:t>
            </a:r>
            <a:br>
              <a:rPr sz="23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rso di Didattica Generale e Pedagogia Sperimental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.A. 2013/2014</a:t>
            </a:r>
            <a:br>
              <a:rPr sz="2300"/>
            </a:br>
            <a:br>
              <a:rPr sz="23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ordinamenti:</a:t>
            </a:r>
            <a:br>
              <a:rPr sz="4400"/>
            </a:br>
            <a:r>
              <a:rPr b="0" lang="it-IT" sz="2700" spc="-1" strike="noStrike">
                <a:solidFill>
                  <a:srgbClr val="4b34f4"/>
                </a:solidFill>
                <a:latin typeface="Tahoma"/>
              </a:rPr>
              <a:t>quadro normativo di riferimento</a:t>
            </a:r>
            <a:r>
              <a:rPr b="0" lang="it-IT" sz="27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33094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Il sistema educativo di istruzione e form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Davide Capperuc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br>
              <a:rPr sz="6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Nel tempo prolungato il monte ore e' determinato mediamente in 36 ore settimanali, elevabili fino a 40, comprensive delle ore destinate agli insegnamenti e alle attivita' e al tempo dedicato alla mens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lassi a «tempo prolungato» sono autorizzate nei limiti della dotazione organica assegnata a ciascuna provi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A89C-650C-4DAB-820B-61ECF14A84A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Corsi ad indirizzo musica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 corsi ad indirizzo musicale si svolgono oltre l'orario obbligatorio delle lezio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Valorizzazione dell'apprendimento pratico, anche con l'ausilio di laboratori musicali, nei limiti delle risorse esistent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20C2-37B4-4514-ACF7-6C9747ADD04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glese potenzia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 decorrere dall'anno scolastico 2009/2010, a richiesta delle famiglie e compatibilmente con le disponibilita' di organico e l'assenza di esubero dei docenti della seconda lingua comunitaria, e‘ introdotto l'insegnamento dell'inglese potenziato anche utilizzando le 2 ore di insegnamento della seconda lingua comun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00A6-676C-4C76-91F6-43CCE5B1B0A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Tahoma"/>
              </a:rPr>
              <a:t>Seconda lingua comunitaria per Italiano L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ore della seconda lingua comunitaria sono utilizzate anche per potenziare l'insegnamento della lingua italiana per gli alunni stranieri non in possesso delle necessarie conoscenze e competenze nella medesima lingua italiana nel rispetto dell'autonomia delle scuo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461E-1CD4-4384-B5AF-8899A398176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55D2-0E13-4E65-A62E-5FB046CCDFA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Riordino secondaria II grado: </a:t>
            </a:r>
            <a:br>
              <a:rPr sz="3100"/>
            </a:b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autonomia -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500120"/>
            <a:ext cx="769608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Istituti tecnici e professional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Quota di autonomia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0% dei curricoli (per tutto il quinquennio) per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potenziare gli insegnamenti obbligatori per tutti gli stud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attivare ulteriori insegn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ncoli: Contingente di organico assegnato annualm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primo b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successivo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iascuna disciplina non può essere decurtata per p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20%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evisto dai quadri orar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9EA4-5EA2-4DFF-AB2D-2755E407237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 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c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Quota dei piani di studio rimessa alle singole istituzioni scolastich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del monte ore complessivo nel primo bienni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3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nel secondo bienni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 quinto an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incoli: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contingente di organico ad esse annualmente assegn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richieste degli studenti e delle loro famigl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orario previsto dal piano di studio di ciascuna disciplina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on può essere ridotto in misura  superiore a 1/3 nell'arc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i cinque ann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non possono essere soppresse le discipline previst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l'ultimo anno di corso nei piani di stud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57DB-A2F0-497E-89C8-3208A12EBE4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89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Spazi di flessibilit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possibi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di articolare in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opzion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le aree di indirizzo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corrispondere alle esigenze del territorio e ai fabbisogni formativi espressi dal mondo del lavoro e delle professioni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sistenza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 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0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professional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a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,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40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b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l primo biennio entro il 25% dell'orario annuale delle lezioni per svolgere un ruolo integrativo e complementare rispetto al sistema dell'istruzione e della formazione professionale regionale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i regolamenti sono previsti elenchi nazionali per l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attivazione di opzioni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4495-D0C0-4F10-BE7D-CDE900CC9DB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uropean Qualifications Framewor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Cornice europea di riferimento ad otto livelli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descritti in termini di competenze (non di titoli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accomandazione del Parlamento e del Consiglio Europeo del 23 aprile 2008 relativa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do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 a livello comunitario, stabilisce che entro il 2010 i paesi membri dovranno rapportare i propri sistemi nazionali di qualificazione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,ed entro il 2012 dovranno indicare, nei singoli certificati di qualifica, un riferimento al livello corrispondent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per quanto riguarda l</a:t>
            </a:r>
            <a:r>
              <a:rPr b="0" i="1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ordinamento italiano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1 = diploma del 1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2 = obbligo di istruzion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3 = qualifica professional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4 = diploma del 2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4" marL="195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vedi DM 139/2007 (allegato tecnico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DPR n. 122 del 22 giugno 2009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96CB-FD16-4185-AD61-4C18A53A2EB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 dipartim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(si) 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possono costituire, senza nuovi o maggiori oneri per la finanza pubblica, dipartimenti, quali articolazioni funzionali del collegio dei docenti, per il sostegno alla progettazione formativa 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alla didattica</a:t>
            </a:r>
            <a:r>
              <a:rPr b="0" i="1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AA5F-E7B2-404D-890D-F9FBEB4DC58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dipart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i regolamenti non vengono date indicazioni sulle moda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rganizza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potesi possibi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ganizzazione per assi culturali (secondo le indicazioni del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bbligo di istruzio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dipartimenti sono funzional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per competenz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multidisciplinare e, per questo, di percorsi per il conseguimento delle competenze di cittadinanza come individuate in sede 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628D-6F64-44F5-B142-107531581D0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esto unico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delle leggi su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ruzion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.Lgs. 297/1994 (dall’art. 5 all’art. 15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elega al Governo per il conferimento di funzioni alle regioni e agli Enti locali per la riforma della P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59/97 (art. 21)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Conferimento di funzioni alle Regioni e agli Enti locali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t. 137, 138, 139,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.Lgs 112/98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golamento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utonomi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in attuazione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rt. 21 della L. 59/97)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PR 275/99 (artt. 1, 3, 4, 5, 6, 7, 8, 9, 11, 14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Costituzionale n. 3/2001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Titolo V, artt. 114,116, 117, 118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Riforma Moratti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53/2003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e Decreti Legislativi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sul primo ciclo, n. 59/04; su INVALSI, n. 286/04; su diritto-dovere a istruzione e formazione, n. 76/05; su alternanza scuola-lavoro, n. 77/05; sul secondo ciclo, n. 226/05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innalzamento obbligo di istruzion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M n. 139/2007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(in attuazione comma 622 legge 296/06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FD52-B96A-4B0B-96B9-A756CFC29A8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l Comitato tecnico scientifico 1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…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ossono dotarsi, senza nuovi o maggiori oneri per la finanza pubblica, di un comitato (tecnico) scientifico composto di docenti e di esperti del mondo del lavoro, delle professioni, della ricerca scientifica e tecnologica, delle univers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delle istituzioni di alta formazione artistica, musicale e coreutica, con funzioni </a:t>
            </a:r>
            <a:r>
              <a:rPr b="0" i="1" lang="it-IT" sz="2400" spc="-1" strike="noStrike">
                <a:solidFill>
                  <a:srgbClr val="ff0066"/>
                </a:solidFill>
                <a:latin typeface="Tahoma"/>
              </a:rPr>
              <a:t>consultive e di proposta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per 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rganizzazione e l'utilizzazione degli spazi di autonomia e flessibilit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; ai componenti del comitato non spettano compensi a nessun titol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3C63-3107-437E-82B4-8CB94132DFB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Il Comitato tecnico scienti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a proposte, sulla scorta delle analisi dei bisogni del territorio, al consiglio di istituto, al dirigente e, per le materie di sua competenza, al collegio dei docenti  p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ilizzazione degli spazi di autonomia e flessibi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'organizzazione delle aree di indiriz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7283-E7DA-4953-8316-86EA08D006C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l recupero del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i laboratori anche come metodologia di base per tutte le discipline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lle forme miste nei percorsi di studio: stage, tirocini, alternanza scuola-lavoro, non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ggiuntivi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alle lezioni e ai laboratori, ma integrate nel curricol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organizzazione in dipartimenti, fondamentale se si vuole realizzare una progettazione formativa per competenze, che richiede livelli elevati di ricerca e di progettazione. I dipartimenti dovrebbero supportare il lavoro dei docenti e dei consigli di classe, fornendo metodologie e strumenti di lavor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possibi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per ogni istituto di stipulare contratti con esperti esterni per sviluppare competenze specialistich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D4EB-EDD4-4270-837E-700DEC8E99B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fficio tec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Gli istituti professionali per il settore industria ed artigianato e gli istituti tecnici per il settore tecnologico sono dotati di un ufficio tecnico con il compito di sostenere la migliore organizzazione e funziona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dei laboratori a fini didattici e il loro adeguamento in relazione alle esigenze poste da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novazione tecnologica nonch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per la sicurezza delle persone e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mbient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apre una possi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concreta di costruire archivi di esperienze didattiche innovativ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678A-55CF-4664-BB6D-62E76EF2891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mpetenze, abilit</a:t>
            </a:r>
            <a:r>
              <a:rPr b="0" lang="it-IT" sz="29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, conoscenze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0600" y="1714680"/>
            <a:ext cx="75549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mpet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omprovata 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usare conoscenze ed abil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in modo autonomo in situazioni di lavoro o di studio e nello sviluppo personale o professional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applicare conoscenze per portare a termine compiti e risolvere problem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nosc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fatti, principi, teorie relativi al settore di studio o di lavoro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B64A-4685-42A5-86C0-8D6F8FB9A68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obbligo di istruzione: 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gli assi cultural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4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dei linguagg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ingua madre, lingua straniera, multimed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matemat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ritmetica, algebra, geometria, rappresentazioni grafiche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cientifico-tecnolog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ienze naturali, trasformazioni di energia, rapporti fra tecnologie ed ambiente, applicazioni informatich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torico-soc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oria, economia, cittadina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FAE3-E3A2-4533-8D6C-57EF8B5D66C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raccomandazioni europee: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le competenze chiave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6760" y="2160720"/>
            <a:ext cx="69292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a madrelingu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e lingue stranie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matematica e competenze di  base scientifiche e tecnolog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spcAft>
                <a:spcPts val="862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digit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e sociali e civ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enso di iniziativa ed imprenditori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nsapevolezza ed espressione cultural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prime quattro sono legate ai saper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altre quattro al saper essere e saper f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A4D-DA47-4CE9-A4CF-CAFE6A382E4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organizzare il proprio apprendimento, individuando, scegliendo ed utilizzando varie fonti e varie mod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informazione e di formazione (formale, non formale ed informale), anche in funzione dei tempi disponibili, delle proprie strategie e del proprio metodo di studio e di lavoro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Proget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elaborare e realizzare progetti riguardanti lo sviluppo delle propri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studio e di lavoro, utilizzando le conoscenze apprese per stabilire obiettivi significativi e realistici e le relative prior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valutando i vincoli e le possibi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sistenti, definendo strategie di azione e verificando i risultati raggiunti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unica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comprende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messaggi di genere diverso (quotidiano, letterario, tecnico, scientifico) e di compless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versa, trasmessi utilizzando linguaggi diversi (verbale, matematico, scientifico, simbolico, ecc.) mediante diversi supporti (cartacei, informatici e multimedial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rappresen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venti, fenomeni, principi, concetti, norme, procedure, atteggiamenti, stati d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nimo, emozioni, ecc. utilizzando linguaggi diversi (verbale, matematico, scientifico, simbolico, ecc.) e diverse conoscenze disciplinari, mediante diversi supporti (cartacei, informatici e multimediali)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llaborare e partecipare: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interagire in gruppo, comprendendo i diversi punti di vista, valorizzando le proprie e le altrui capac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gestendo la conflittu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contribuendo all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pprendimento comune ed alla realizzazione dell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collettive, nel riconoscimento dei diritti fondamentali degli altri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CD41-9F73-448A-A48E-483064FA730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gire in modo autonomo e responsabil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sapersi inserire in modo attivo e consapevole nella vita sociale e far valere al suo interno i propri diritti e bisogni riconoscendo al contempo quelli altrui, le opportun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comuni, i limiti, le regole, le responsa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Risolvere problem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ffrontare situazioni problematiche costruendo e verificando ipotesi, individuando le fonti e le risorse adeguate, raccogliendo e valutando i dati, proponendo soluzioni utilizzando, secondo il tipo di problema, contenuti e metodi delle diverse disciplin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viduare collegamenti e relazioni: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cquisire ed interpretare l</a:t>
            </a:r>
            <a:r>
              <a:rPr b="1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formazion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cquisire ed interpretare criticamente l'informazione ricevuta nei diversi ambiti ed attraverso diversi strumenti comunicativi, valutandon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endi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ut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, distinguendo fatti e opinion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D512-D2F1-466C-8A9F-2631BFE379B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260280"/>
            <a:ext cx="77054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673B-D918-4AF0-9EE5-BB1FB55B92B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❒ </a:t>
            </a: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R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forma istruzione tecnica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40/2007 art. 1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PCM 25 gennaio 2008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cante linee guida per la riorganizzazione del Sistema di istruzione e formazione tecnica superiore e la costituzione degli Istituti Tecnici Superior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25 giugno 2008, n. 112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6 agosto 2008, n. 133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  urgenti  per  lo  sviluppo  economico,  la semplificazione,  la competitiv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la stabilizzazione della finanza pubblica e la perequazione tributaria.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. 64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comma, 3 del DL, prevede un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iano programmat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Ministe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truzione,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nivers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della Ricerca di concerto con il Minist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conomia e delle Finanze (predisposto il 4 settembre 2008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1 settembre 2008, n. 137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30 ottobre 2008, n. 16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urgenti in materia di istruzione e univers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(maestro unico, valutazione in decimi, voto di condotta, libri di testo)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3C33-8240-4BCD-A8BE-74E38C071A7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5670-3B0B-48B1-B8C5-B80497C81ED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vel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bas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semplici in situazioni note,mostrando di possedere conoscenze ed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ssenziali e di saper applicare regole e procedure fondamental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Nel caso in cui non sia stato raggiunto il livello base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riportata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spression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ivello base non raggiun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con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icazione dell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tiva moti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intermed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e risolve problemi complessi in situazioni note, compie scelte consapevoli, mostrando di saper utilizzare le conoscenze e 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cquisi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avanzato: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o studente svolge compiti e problemi complessi in situazioni anche non note, mostrando padronanza n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so delle conoscenze e del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 Sa proporre e sostenere le proprie opinioni e assumere autonomamente decisioni consapevo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2C9B-A439-45F2-B785-7812BB84CB2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dicazioni nazionali per i Licei e Linee guida per IT e I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083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cazioni nazionali per i Lice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riferimento alla Legge 53/03 e al D.Lgs 226/05 che viene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riordinato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- Linee guida per IT e IP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uazione della Legge 40/200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on ci sono p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rogrammi ministerial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sulle discipline di inseg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MIUR d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ndicazioni alle scuole (profili, obiettivi generali, obiettivi specifici) sui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risultati di apprendimento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 descritti per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mpetenze</a:t>
            </a: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(per 1° biennio, 2° biennio, 5° anno, con l</a:t>
            </a:r>
            <a:r>
              <a:rPr b="0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indicazione delle discipline che concorrono al loro raggiungimento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b34f4"/>
                </a:solidFill>
                <a:latin typeface="Tahoma"/>
              </a:rPr>
              <a:t>attraverso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 e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noscenz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- I docenti individuano i percorsi formativi (conoscenze correlate alle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) per il conseguimento delle competenze indicat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BAB5-EC39-458B-9B77-FC763EE2E16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percorsi degli IT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si realizzano attraverso metodologie finalizzate a sviluppare, con particolare riferimento a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agli insegnamenti di indirizzo, competenze basate sulla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didattica di laboratorio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l'analisi e la soluzione dei problemi, il lavoro per progetti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; sono orientati alla gestione di processi in contesti organizzati e all'uso di modelli e linguaggi specifici; sono strutturati in modo da favorire un collegamento organico con il mondo del lavoro e delle professioni, compresi il volontariato ed il privato sociale. Stage, tirocini e alternanza scuola lavoro sono strumenti didattici per la realizzazione dei percorsi di studio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.(art. 5, c. 2/e)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3849-D3AB-4D0E-98B4-2725209BF6D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 percorsi liceali forniscono allo studente gli strumenti culturali e metodologici per una comprensione approfondita della real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, affinch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gli si ponga, con atteggiamento razionale,creativo,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progettual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critico, di fronte alle situazioni, ai fenomeni e ai problemi, ed acquisisca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conoscenze, abilit</a:t>
            </a:r>
            <a:r>
              <a:rPr b="0" i="1" lang="it-IT" sz="2400" spc="-1" strike="noStrike">
                <a:solidFill>
                  <a:srgbClr val="f0401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 e competenz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coerenti con le capac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le scelte personali e adeguate al proseguimento degli studi di ordine superiore, all'inserimento nella vita sociale e nel mondo del lavor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.(art. 2, c.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15B2-9073-4DC2-BA74-EDA4826C63F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todologie innova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didattica laboratoriale e in laborat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analisi e soluzione dei proble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lavoro per proget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tirocini e alternanza scuola lavo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operativ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uso di tecnologie avanz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FC30-BD4A-4D39-90D6-EFEAF9B5FB7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66"/>
                </a:solidFill>
                <a:latin typeface="Tahoma"/>
              </a:rPr>
              <a:t>CLIL - 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ntent and Language Integrated Learnin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i Lice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Fatto salvo quanto stabilito specificamente per il percorso del liceo linguistico*, nel quinto ann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impartito l'insegnamento, in lingua straniera, di una disciplina non linguistica compresa nell'area de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degli insegnamenti obbligatori per tutti gli studenti o nell'area degli insegnamenti attivabili dalle istituzioni scolastiche nei limiti del contingente di organico ad esse annualmente assegnato . Tale insegnament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attivato in ogni caso nei limiti degli organici determinati a legislazione vigente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gli IT la lingua che si utilizza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nglese ed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scelta tra quelle del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ea di indirizzo del quinto ann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i licei linguistici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si inizia dal primo anno del secondo bienn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5C6E-72CC-4824-AB83-2547D057895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quadro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2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938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cuola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fanzia: 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e anni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1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primaria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secondaria di primo grado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tr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traguardi di competenza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Pubblicata (nov 2012) la revisione delle Indicazioni per il 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curricolo per la scuola dell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infanzia e il primo ciclo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2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risultati di apprendimento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1B7D-ABCC-4FB3-BB09-394E1BFD99F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ce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1" lang="it-IT" sz="2300" spc="-1" strike="noStrike">
                <a:solidFill>
                  <a:srgbClr val="40458c"/>
                </a:solidFill>
                <a:latin typeface="Tahoma"/>
              </a:rPr>
              <a:t>licei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sei, con indirizzi e opzioni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artistico con sei indirizz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ti figurativ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chitettura e ambien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Desig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udiovisivo e multimedi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Grafic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cenograf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class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linguis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musicale e coreu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tifico con opzione scienze applica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ze umane con opzione economico-sociale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6F10-22DB-4F95-B861-F93DCD47C99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con undic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econom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mministrazione, Finanza e Marketing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zioni internazionali per il Marketing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istemi informativi aziendali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uris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tecnolog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nov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eccanica, Meccatronica ed Energ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Meccanica e mecca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d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erg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asporti e Logist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str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nd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og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lettronica ed Elettro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tec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utomazione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DE38-F4A1-49D6-BE09-B2CFCF3C857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520" y="1904760"/>
            <a:ext cx="7824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PR n. 81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el 20.03.2009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,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golamento su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Norme per la riorganizzazione della rete scolastica e il razionale ed efficace utilizzo delle risorse umane della scuola, ai sensi del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rticolo 64, comma 4, del decreto legge 25 giugno 2008, n. 112, convertito con modificazioni della legge 6 agosto 2008, 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n.133</a:t>
            </a: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A516-1EA2-4CF1-BA44-D1B6736BCE7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formatica e Telecomunicazion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Informatic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lecomunic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rafica e Comunicazione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himica, Materiali e Biotecnologi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himica e materi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ambient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sanitarie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Sistema Mo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ssile, abbigliamento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alzature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graria, Agroalimentare e Agroindustr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Produzioni e trasform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stione dell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ambiente e del territori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Viticoltura ed enologi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struzioni, Ambiente e Territori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e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otecnic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672F-C6D1-4251-8D5B-41BD7257048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e se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serviz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quattro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gricoltura e lo sviluppo rur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ocio sanitari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 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dontotecn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tt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nogastronomia e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spit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lberghie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ogastronom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ervizi di sala e di vendit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ccoglienza tur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mer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ndustria e artigianat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oduzioni artigianali e industr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ustr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giana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nutenzione e assistenza 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72D1-1BE3-4497-88D7-05D447D50C4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533B-3618-4C10-B1C9-B7409DC68CC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Arial"/>
                <a:ea typeface="Lucida Sans Unicode"/>
              </a:rPr>
              <a:t>Obbligo e diritto-dover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bbligo di istruzione: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fino a 16 anni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l 1° biennio del secondo ciclo, </a:t>
            </a:r>
            <a:r>
              <a:rPr b="0" i="1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ppure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 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i percorsi di istruzione e formazione professionale (in attuazione del capo III del D.Lgs 226/05 e dell’Intesa del 16 dic 2010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61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i percorsi formativi previsti dalla legge sull’apprendistat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innalzata l’età di accesso a 16 anni da Legge finanziaria 2007, è stato approvato nella Legge n.183/2010, “Collegato al lavoro”, un ritorno alla soglia minima di 15 anni, con compimento di obbligo nei percorsi per apprendistato, disposizione confermata nel 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U 167/2011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Vige il D.Lgs 76/2005 su “Diritto – Dovere a istruzione e formazione professionale” per il quale si resta in formazione fino a 18 anni (salvo conseguimento di qualifica professionale entro i 18 anni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43B6-6FB4-4024-9BF8-3E3071690E7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titoli di studio e qualifiche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tecnic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professional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Licei rilasciano diplomi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li istituti professionali rilasciano diplomi quinquennali; in sussidiarie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con le Regioni, possono rilasciare qualifiche triennali o diplomi professionali quadriennali (compresi nel repertorio nazionale di cui alla Legge 40/07) secondo le due modali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sa del 16 dic 2010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- offerta sussidiaria integr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- offerta sussidiaria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o per gli iscritti alle classi prime de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s. 2010-11 vige il regime surrogatorio (si rilasciano ancora qualifiche triennali)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utti i diplomi danno accesso agli studi superiori universitari o tecnici (Istituti Tecnici Superiori) e al mondo del lavo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ferimento obbligatorio (entro il 2012) al sistema EQF: European Qualifications Framework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19D9-7B97-4BC4-83AD-89442044F4F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Intesa Stato-Regioni 16 dicembre 2010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definiscono i rapporti tra istituti professionali e istruzione e formazione professionale di competenza regional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tes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riguarda 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dozione di linee-gui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ttua una previsione legislativ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egge 2 aprile 2007, n. 40 art. 13.1.5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nsente di conseguire 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qualifich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gli istituti professionali di 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integrat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complement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decisione spetta a ciascuna Regi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F7AA-C713-4826-A2AE-87088C53549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CM 101 del 30 dicembre 2010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Tipologia A </a:t>
            </a: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offerta sussidiaria integrativa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li studenti che chiedono di iscriversi alla classe prima degli indirizzi quinquennali degli istituti professionali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1 possono contestualmente chiedere anche di poter conseguire una qualifica professionale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2 a conclusione del terzo anno. A tal fine, gli istituti professionali propongono agli studenti e alle loro famiglie i percorsi d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lifica corrispondenti, in base a quanto previsto dalla tabella allegato n. 3, a quelli realizzati nel corrente anno scolastic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9383-0E24-42EE-B9B2-825DEBCED45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ipologia B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fferta sussidiaria complementar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ale tipologia può trovare attuazione solo qualora il competente Assessorato regionale decida, in attu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ccordo territoriale col competente USR per la prima attuazione delle linee guida, di attivare presso gli istituti professionali classi prime che assumano gli standard formativi e la regolament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rdinamento dei percorsi triennali di IeFP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 tale caso possono iscriversi a detti corsi gli studenti che intendano conseguire solo i titoli di qualifica triennali di cui al Capo II, punto 2, delle Linee guida.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crizione ai citati percorsi avverr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econdo mod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procedure operative da concordare sulla base delle indicazioni che le singole Regioni fornirann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B486-3DBA-45E7-9F1E-F95A7AECC1C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7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8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tecnici 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9, 15 marzo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Revisione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ssetto ordinamentale, organizzativo e didattico de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,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30FB-432E-4790-B1FA-64229B70597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7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novazioni e nuovi punti di riferi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40458c"/>
                </a:solidFill>
                <a:latin typeface="Tahoma"/>
              </a:rPr>
              <a:t>innovazioni strutturali dei regolamenti di riordino del primo e del secondo ciclo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60080" indent="-460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autonomia e flessibilit</a:t>
            </a:r>
            <a:r>
              <a:rPr b="0" lang="it-IT" sz="26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quadro europeo delle qualifich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dipartimenti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itato tecnico-scientif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ufficio tecn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petenze, abilità, conoscenz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laboratori e laboratorialit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segnamento in lingua straniera di una disciplina non linguistica (CLI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tegrazio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4FD0-403E-4CC1-8A99-83BD8458B08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Un punto chiave dei nuovi ordinamenti: la quota di autonomi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4240" y="2020680"/>
            <a:ext cx="7556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500" spc="-1" strike="noStrike">
                <a:solidFill>
                  <a:srgbClr val="40458c"/>
                </a:solidFill>
                <a:latin typeface="Tahoma"/>
              </a:rPr>
              <a:t>le origin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M n. 234 del 26.06.2000 (regol. art. 8 DPR 275/99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Quota nazionale e quota riservata alle istituzioni scolastiche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85% quota nazionale obbligator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15% quota riservata alle scuole da utilizzare per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uove discipline;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personalizzazione dei curricoli; valorizzazione del merito, potenziamento, sostegno e recupero nelle difficol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i apprendimento; laboratori, educazioni)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7954-6AC9-4762-B0EA-A1A66A2DA39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quota di autonom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la contin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M 28 dic 2005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inistro Moratt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80% quota nazionale obbligatoria (solo per II Ciclo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20% quota riservata alle scuol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disposizioni estese anche al 1° Ciclo dal 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Decreto Ministeriale n. 47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del 13 giugno 2006 (Ministro Fioron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'orario annuale obbligatorio delle lezioni nella scuola secondaria di I grado e' di complessive 990 ore, corrispondente a 29 ore settimanali, piu' 33 ore annuali da destinare ad attivita' di approfondimento riferita agli insegnamenti di materie letterari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DB08-D073-4AD1-AC10-16D14477A38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46:55Z</dcterms:created>
  <dc:creator> </dc:creator>
  <dc:description/>
  <cp:keywords/>
  <dc:language>en-US</dc:language>
  <cp:lastModifiedBy>Valued Acer Customer</cp:lastModifiedBy>
  <dcterms:modified xsi:type="dcterms:W3CDTF">2014-03-19T22:47:06Z</dcterms:modified>
  <cp:revision>27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0</vt:lpwstr>
  </property>
</Properties>
</file>